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DA4E-497F-4029-B717-4BB23F33A6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lsbu.ac.uk/water/vibrat.html" TargetMode="External"/><Relationship Id="rId2" Type="http://schemas.openxmlformats.org/officeDocument/2006/relationships/hyperlink" Target="http://www.lsbu.ac.uk/water/vibrat.html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massive expansion of the C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g of CO2 solid has a volume of about 0.01/ 1562 kg/m^3 = 6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gaseous state at around 15 C this increase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g of CO2 gas at around 15 C has a volume of about 0.01/ 1.87 kg/m^3 = 5 li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Molecular Weigh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Molecular weigh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44.01 g/mol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Sol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atent heat of fusion (1,013 bar, at triple point) : 196.104 kJ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olid density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1562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Liqu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iquid density (at -2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or -4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 and 19.7 bar) : 1032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iquid/gas equivalent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per kg of solid)) : 845 vol/vol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Boiling point (Sublimation) : -78.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Latent heat of vaporization (1.013 bar at boiling point) : 571.08 kJ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Vapor pressure (at 2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or 68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 : 58.5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Density &amp; temperature calculation of the liquid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iven the pressure (in bar), this module calculates the temperature and the density of the liquid phase on the liquid-gas equilibrium curveEnter the pressure in bar (between 7 and 26)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Critical poin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temperat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3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press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73.825 bar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ritical density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464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Triple point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riple point temperat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-56.6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riple point pressur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5.185 bar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Gaseous pha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as density (1.013 bar at sublimation point) : 2.814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Gas density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59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87 kg/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av-RU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ompressibility Factor (Z) (1.013 bar and 1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59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9942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pecific gravity (air = 1) (1.013 bar and 2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521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pecific volume (1.013 bar and 21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547 m</a:t>
            </a:r>
            <a:r>
              <a:rPr b="0" lang="en-US" sz="1200" spc="-1" strike="noStrike" baseline="30000">
                <a:solidFill>
                  <a:srgbClr val="002080"/>
                </a:solidFill>
                <a:latin typeface="Verdana"/>
              </a:rPr>
              <a:t>3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/kg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Heat capacity at constant pressure (Cp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37 kJ/(mol.K)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Heat capacity at constant volume (Cv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28 kJ/(mol.K)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Ratio of specific heats (Gamma:Cp/Cv) (1.013 bar and 25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77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293759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Viscosity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0.0001372 Poise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Thermal conductivity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4.65 mW/(m.K)</a:t>
            </a:r>
            <a:r>
              <a:rPr b="1" lang="en-US" sz="1200" spc="-1" strike="noStrike">
                <a:solidFill>
                  <a:srgbClr val="002080"/>
                </a:solidFill>
                <a:latin typeface="Arial"/>
              </a:rPr>
              <a:t>Miscellaneous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Solubility in water (1.013 bar and 0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(32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｡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F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)) : 1.7163 vol/vol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･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Concentration in air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  <a:ea typeface="ヒラギノ角ゴ Pro W3"/>
              </a:rPr>
              <a:t>ﾊ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2080"/>
                </a:solidFill>
                <a:latin typeface="Verdana"/>
              </a:rPr>
              <a:t>: 0.03 vol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lament of a normal light bulb is heated to about 2500 celsius to make it give off ‘white’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at about 800 celsius: its </a:t>
            </a:r>
            <a:r>
              <a:rPr b="0" lang="en-US" sz="1200" spc="-1" strike="noStrike">
                <a:solidFill>
                  <a:srgbClr val="ccccff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s colder, it gives off only infra-red light. We can’t ‘see’ this light but we can detec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’ll be around to measure your temperature by capturing the radiation you emit in just a 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 think of the the tuning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molecules ‘ring’ or ‘resonate’ in the infra red is critically important for the property of the atmosphere and the existence of the greenhous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 animation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www.lsbu.ac.uk/water/vibr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1840" y="70344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of things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Heat and other energy transfer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Radiators and absorber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heat transfer by radiation demonstrated in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mportant principles and common misconce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Energy transfer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simple energy transfer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nergy transfers taking place within tha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The language of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416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difficult ter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tial’ (classical) vs ‘Store’ (descrip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er/transform –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et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232400" cy="828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Feynman on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489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fact, or if you wish a law, governing all natural phenomena that are known to date. There is no exception to this law – it is exact so far as is known. The law is called the conservation of energy. It says that there is a certain quantity, which we call energy, that does not change in the manifold changes which nature undergoes. That is a most abstract idea, because it is a mathematical principle; it says that there is a numerical quantity, which does not change when something happens. It is not a description of a mechanism, or anything concrete; it is just a strange fact that we can calculate some number and when we finish watching nature go through her tricks and calculate the number again, it is the s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Abstrac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ynman expressed energy as an abstract, mathematical idea – how does this feel to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help yourself and your students to make sense of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Practical challenges – share and enjo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 a practical activity to illustrate energy changes using the SEP energy 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bungee jump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levation is required to turn 1, 2 or 3 loop-the-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 your own energy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640" y="800280"/>
            <a:ext cx="820908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Kinetic and gravitational energ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70580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y up – one confident mathematician* per pair/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ork (J) = Force (N) x distance (m), derive the formulae for gravitational potential energy and kinetic energy. What assumptions have you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 all go throug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peak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Rectangle 5"/>
          <p:cNvGraphicFramePr/>
          <p:nvPr/>
        </p:nvGraphicFramePr>
        <p:xfrm>
          <a:off x="395280" y="115920"/>
          <a:ext cx="533556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Rectangl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53355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848200" y="78588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vailable on the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’s actually a relatively straightforward bit of calculus! Don’t panic – you’ll get this when we’ve been through the math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Next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over today’s content. Note the areas that you feel confident about and those that you need to work more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som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devising some problems in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Making it real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heat and tempera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 temperature difference causes heat to be transferred? (and how much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rmal conduction takes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ood and bad models are ou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0600" y="2971440"/>
            <a:ext cx="8371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Infra Red Lig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58972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slides taken from NPL ‘Protons for Break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59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115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116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813040" cy="990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4680" y="3057120"/>
            <a:ext cx="811800" cy="738720"/>
            <a:chOff x="184680" y="3057120"/>
            <a:chExt cx="811800" cy="738720"/>
          </a:xfrm>
        </p:grpSpPr>
        <p:grpSp>
          <p:nvGrpSpPr>
            <p:cNvPr id="138" name=""/>
            <p:cNvGrpSpPr/>
            <p:nvPr/>
          </p:nvGrpSpPr>
          <p:grpSpPr>
            <a:xfrm>
              <a:off x="184680" y="3057120"/>
              <a:ext cx="811800" cy="738720"/>
              <a:chOff x="184680" y="3057120"/>
              <a:chExt cx="811800" cy="738720"/>
            </a:xfrm>
          </p:grpSpPr>
          <p:sp>
            <p:nvSpPr>
              <p:cNvPr id="139" name=""/>
              <p:cNvSpPr/>
              <p:nvPr/>
            </p:nvSpPr>
            <p:spPr>
              <a:xfrm rot="6875400">
                <a:off x="334800" y="3096720"/>
                <a:ext cx="510840" cy="659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6875400">
                <a:off x="253800" y="322416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3000" y="3626280"/>
              <a:ext cx="47520" cy="48240"/>
              <a:chOff x="513000" y="3626280"/>
              <a:chExt cx="47520" cy="4824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536760" y="362628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13000" y="365040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3640" y="3637800"/>
              <a:ext cx="47520" cy="48240"/>
              <a:chOff x="593640" y="3637800"/>
              <a:chExt cx="47520" cy="4824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617400" y="3637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93640" y="3661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82920" y="3637440"/>
              <a:ext cx="47520" cy="48240"/>
              <a:chOff x="682920" y="3637440"/>
              <a:chExt cx="47520" cy="482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706680" y="36374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82920" y="36615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72200" y="3601800"/>
              <a:ext cx="47520" cy="48240"/>
              <a:chOff x="772200" y="3601800"/>
              <a:chExt cx="47520" cy="4824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795960" y="3601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72200" y="3625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37720" y="3517920"/>
              <a:ext cx="47520" cy="48240"/>
              <a:chOff x="837720" y="3517920"/>
              <a:chExt cx="47520" cy="4824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861480" y="35179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37720" y="35420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855360" y="3434040"/>
              <a:ext cx="47520" cy="48240"/>
              <a:chOff x="855360" y="3434040"/>
              <a:chExt cx="47520" cy="482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879120" y="34340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55360" y="34581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284280" y="2951280"/>
            <a:ext cx="3000600" cy="3097080"/>
            <a:chOff x="3284280" y="2951280"/>
            <a:chExt cx="3000600" cy="3097080"/>
          </a:xfrm>
        </p:grpSpPr>
        <p:sp>
          <p:nvSpPr>
            <p:cNvPr id="160" name=""/>
            <p:cNvSpPr/>
            <p:nvPr/>
          </p:nvSpPr>
          <p:spPr>
            <a:xfrm>
              <a:off x="3330720" y="2951280"/>
              <a:ext cx="2954160" cy="309708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04360" y="3484440"/>
              <a:ext cx="1195560" cy="228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84280" y="3179520"/>
              <a:ext cx="1284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250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59000" y="4111560"/>
            <a:ext cx="2844720" cy="1936800"/>
            <a:chOff x="3159000" y="4111560"/>
            <a:chExt cx="2844720" cy="1936800"/>
          </a:xfrm>
        </p:grpSpPr>
        <p:sp>
          <p:nvSpPr>
            <p:cNvPr id="164" name=""/>
            <p:cNvSpPr/>
            <p:nvPr/>
          </p:nvSpPr>
          <p:spPr>
            <a:xfrm>
              <a:off x="3541680" y="4179240"/>
              <a:ext cx="2462040" cy="186912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3760" y="4381920"/>
              <a:ext cx="1335960" cy="2026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59000" y="4111560"/>
              <a:ext cx="111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80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50760" y="5084640"/>
            <a:ext cx="2761200" cy="963720"/>
            <a:chOff x="2750760" y="5084640"/>
            <a:chExt cx="2761200" cy="963720"/>
          </a:xfrm>
        </p:grpSpPr>
        <p:sp>
          <p:nvSpPr>
            <p:cNvPr id="168" name=""/>
            <p:cNvSpPr/>
            <p:nvPr/>
          </p:nvSpPr>
          <p:spPr>
            <a:xfrm>
              <a:off x="4386240" y="5389560"/>
              <a:ext cx="1125720" cy="658800"/>
            </a:xfrm>
            <a:custGeom>
              <a:avLst/>
              <a:gdLst/>
              <a:ahLst/>
              <a:rect l="l" t="t" r="r" b="b"/>
              <a:pathLst>
                <a:path w="2016" h="1711">
                  <a:moveTo>
                    <a:pt x="0" y="1692"/>
                  </a:moveTo>
                  <a:cubicBezTo>
                    <a:pt x="770" y="1555"/>
                    <a:pt x="1022" y="1028"/>
                    <a:pt x="1099" y="897"/>
                  </a:cubicBezTo>
                  <a:cubicBezTo>
                    <a:pt x="1176" y="766"/>
                    <a:pt x="1511" y="0"/>
                    <a:pt x="1632" y="108"/>
                  </a:cubicBezTo>
                  <a:cubicBezTo>
                    <a:pt x="1753" y="216"/>
                    <a:pt x="1760" y="1183"/>
                    <a:pt x="1824" y="1447"/>
                  </a:cubicBezTo>
                  <a:cubicBezTo>
                    <a:pt x="1888" y="1711"/>
                    <a:pt x="1891" y="1658"/>
                    <a:pt x="2016" y="1692"/>
                  </a:cubicBezTo>
                </a:path>
              </a:pathLst>
            </a:custGeom>
            <a:noFill/>
            <a:ln cap="rnd"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2800" y="5427720"/>
              <a:ext cx="1336320" cy="2286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50760" y="5084640"/>
              <a:ext cx="945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Arial"/>
                </a:rPr>
                <a:t>20 °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4411800"/>
            <a:ext cx="1319040" cy="1620720"/>
          </a:xfrm>
          <a:custGeom>
            <a:avLst/>
            <a:gdLst/>
            <a:ahLst/>
            <a:rect l="l" t="t" r="r" b="b"/>
            <a:pathLst>
              <a:path w="2250" h="2552">
                <a:moveTo>
                  <a:pt x="567" y="0"/>
                </a:moveTo>
                <a:cubicBezTo>
                  <a:pt x="286" y="345"/>
                  <a:pt x="0" y="658"/>
                  <a:pt x="6" y="1080"/>
                </a:cubicBezTo>
                <a:cubicBezTo>
                  <a:pt x="12" y="1502"/>
                  <a:pt x="322" y="2291"/>
                  <a:pt x="602" y="2531"/>
                </a:cubicBezTo>
                <a:cubicBezTo>
                  <a:pt x="1226" y="2552"/>
                  <a:pt x="1226" y="2531"/>
                  <a:pt x="1689" y="2520"/>
                </a:cubicBezTo>
                <a:cubicBezTo>
                  <a:pt x="1964" y="2278"/>
                  <a:pt x="2250" y="1500"/>
                  <a:pt x="2250" y="1080"/>
                </a:cubicBezTo>
                <a:cubicBezTo>
                  <a:pt x="2250" y="660"/>
                  <a:pt x="1969" y="330"/>
                  <a:pt x="1689" y="0"/>
                </a:cubicBezTo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6120" y="3154320"/>
            <a:ext cx="766800" cy="83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363840"/>
            <a:ext cx="582480" cy="704880"/>
          </a:xfrm>
          <a:custGeom>
            <a:avLst/>
            <a:gdLst/>
            <a:ahLst/>
            <a:rect l="l" t="t" r="r" b="b"/>
            <a:pathLst>
              <a:path w="997" h="1110">
                <a:moveTo>
                  <a:pt x="405" y="930"/>
                </a:moveTo>
                <a:cubicBezTo>
                  <a:pt x="233" y="645"/>
                  <a:pt x="62" y="360"/>
                  <a:pt x="31" y="210"/>
                </a:cubicBezTo>
                <a:cubicBezTo>
                  <a:pt x="0" y="60"/>
                  <a:pt x="125" y="0"/>
                  <a:pt x="218" y="30"/>
                </a:cubicBezTo>
                <a:cubicBezTo>
                  <a:pt x="311" y="60"/>
                  <a:pt x="592" y="330"/>
                  <a:pt x="592" y="390"/>
                </a:cubicBezTo>
                <a:cubicBezTo>
                  <a:pt x="592" y="450"/>
                  <a:pt x="218" y="450"/>
                  <a:pt x="218" y="390"/>
                </a:cubicBezTo>
                <a:cubicBezTo>
                  <a:pt x="218" y="330"/>
                  <a:pt x="467" y="60"/>
                  <a:pt x="592" y="30"/>
                </a:cubicBezTo>
                <a:cubicBezTo>
                  <a:pt x="717" y="0"/>
                  <a:pt x="935" y="150"/>
                  <a:pt x="966" y="210"/>
                </a:cubicBezTo>
                <a:cubicBezTo>
                  <a:pt x="997" y="270"/>
                  <a:pt x="779" y="420"/>
                  <a:pt x="779" y="390"/>
                </a:cubicBezTo>
                <a:cubicBezTo>
                  <a:pt x="779" y="360"/>
                  <a:pt x="966" y="0"/>
                  <a:pt x="966" y="30"/>
                </a:cubicBezTo>
                <a:cubicBezTo>
                  <a:pt x="966" y="60"/>
                  <a:pt x="810" y="390"/>
                  <a:pt x="779" y="570"/>
                </a:cubicBezTo>
                <a:cubicBezTo>
                  <a:pt x="748" y="750"/>
                  <a:pt x="763" y="930"/>
                  <a:pt x="779" y="111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-131760" y="2690640"/>
            <a:ext cx="1573200" cy="1704960"/>
            <a:chOff x="-131760" y="2690640"/>
            <a:chExt cx="1573200" cy="1704960"/>
          </a:xfrm>
        </p:grpSpPr>
        <p:sp>
          <p:nvSpPr>
            <p:cNvPr id="175" name=""/>
            <p:cNvSpPr/>
            <p:nvPr/>
          </p:nvSpPr>
          <p:spPr>
            <a:xfrm>
              <a:off x="-131760" y="2690640"/>
              <a:ext cx="1573200" cy="17049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9000" y="3309840"/>
              <a:ext cx="582840" cy="704880"/>
            </a:xfrm>
            <a:custGeom>
              <a:avLst/>
              <a:gdLst/>
              <a:ahLst/>
              <a:rect l="l" t="t" r="r" b="b"/>
              <a:pathLst>
                <a:path w="997" h="1110">
                  <a:moveTo>
                    <a:pt x="405" y="930"/>
                  </a:moveTo>
                  <a:cubicBezTo>
                    <a:pt x="233" y="645"/>
                    <a:pt x="62" y="360"/>
                    <a:pt x="31" y="210"/>
                  </a:cubicBezTo>
                  <a:cubicBezTo>
                    <a:pt x="0" y="60"/>
                    <a:pt x="125" y="0"/>
                    <a:pt x="218" y="30"/>
                  </a:cubicBezTo>
                  <a:cubicBezTo>
                    <a:pt x="311" y="60"/>
                    <a:pt x="592" y="330"/>
                    <a:pt x="592" y="390"/>
                  </a:cubicBezTo>
                  <a:cubicBezTo>
                    <a:pt x="592" y="450"/>
                    <a:pt x="218" y="450"/>
                    <a:pt x="218" y="390"/>
                  </a:cubicBezTo>
                  <a:cubicBezTo>
                    <a:pt x="218" y="330"/>
                    <a:pt x="467" y="60"/>
                    <a:pt x="592" y="30"/>
                  </a:cubicBezTo>
                  <a:cubicBezTo>
                    <a:pt x="717" y="0"/>
                    <a:pt x="935" y="150"/>
                    <a:pt x="966" y="210"/>
                  </a:cubicBezTo>
                  <a:cubicBezTo>
                    <a:pt x="997" y="270"/>
                    <a:pt x="779" y="420"/>
                    <a:pt x="779" y="390"/>
                  </a:cubicBezTo>
                  <a:cubicBezTo>
                    <a:pt x="779" y="360"/>
                    <a:pt x="966" y="0"/>
                    <a:pt x="966" y="30"/>
                  </a:cubicBezTo>
                  <a:cubicBezTo>
                    <a:pt x="966" y="60"/>
                    <a:pt x="810" y="390"/>
                    <a:pt x="779" y="570"/>
                  </a:cubicBezTo>
                  <a:cubicBezTo>
                    <a:pt x="748" y="750"/>
                    <a:pt x="763" y="930"/>
                    <a:pt x="779" y="111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141120" y="2673360"/>
            <a:ext cx="1574640" cy="1704960"/>
            <a:chOff x="-141120" y="2673360"/>
            <a:chExt cx="1574640" cy="1704960"/>
          </a:xfrm>
        </p:grpSpPr>
        <p:sp>
          <p:nvSpPr>
            <p:cNvPr id="178" name=""/>
            <p:cNvSpPr/>
            <p:nvPr/>
          </p:nvSpPr>
          <p:spPr>
            <a:xfrm>
              <a:off x="-141120" y="2673360"/>
              <a:ext cx="1574640" cy="1704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0000" y="3292560"/>
              <a:ext cx="583200" cy="704880"/>
            </a:xfrm>
            <a:custGeom>
              <a:avLst/>
              <a:gdLst/>
              <a:ahLst/>
              <a:rect l="l" t="t" r="r" b="b"/>
              <a:pathLst>
                <a:path w="997" h="1110">
                  <a:moveTo>
                    <a:pt x="405" y="930"/>
                  </a:moveTo>
                  <a:cubicBezTo>
                    <a:pt x="233" y="645"/>
                    <a:pt x="62" y="360"/>
                    <a:pt x="31" y="210"/>
                  </a:cubicBezTo>
                  <a:cubicBezTo>
                    <a:pt x="0" y="60"/>
                    <a:pt x="125" y="0"/>
                    <a:pt x="218" y="30"/>
                  </a:cubicBezTo>
                  <a:cubicBezTo>
                    <a:pt x="311" y="60"/>
                    <a:pt x="592" y="330"/>
                    <a:pt x="592" y="390"/>
                  </a:cubicBezTo>
                  <a:cubicBezTo>
                    <a:pt x="592" y="450"/>
                    <a:pt x="218" y="450"/>
                    <a:pt x="218" y="390"/>
                  </a:cubicBezTo>
                  <a:cubicBezTo>
                    <a:pt x="218" y="330"/>
                    <a:pt x="467" y="60"/>
                    <a:pt x="592" y="30"/>
                  </a:cubicBezTo>
                  <a:cubicBezTo>
                    <a:pt x="717" y="0"/>
                    <a:pt x="935" y="150"/>
                    <a:pt x="966" y="210"/>
                  </a:cubicBezTo>
                  <a:cubicBezTo>
                    <a:pt x="997" y="270"/>
                    <a:pt x="779" y="420"/>
                    <a:pt x="779" y="390"/>
                  </a:cubicBezTo>
                  <a:cubicBezTo>
                    <a:pt x="779" y="360"/>
                    <a:pt x="966" y="0"/>
                    <a:pt x="966" y="30"/>
                  </a:cubicBezTo>
                  <a:cubicBezTo>
                    <a:pt x="966" y="60"/>
                    <a:pt x="810" y="390"/>
                    <a:pt x="779" y="570"/>
                  </a:cubicBezTo>
                  <a:cubicBezTo>
                    <a:pt x="748" y="750"/>
                    <a:pt x="763" y="930"/>
                    <a:pt x="779" y="1110"/>
                  </a:cubicBezTo>
                </a:path>
              </a:pathLst>
            </a:custGeom>
            <a:noFill/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85920" y="3954600"/>
            <a:ext cx="547560" cy="571320"/>
          </a:xfrm>
          <a:custGeom>
            <a:avLst/>
            <a:gdLst>
              <a:gd name="textAreaLeft" fmla="*/ 120240 w 547560"/>
              <a:gd name="textAreaRight" fmla="*/ 427320 w 547560"/>
              <a:gd name="textAreaTop" fmla="*/ 125640 h 571320"/>
              <a:gd name="textAreaBottom" fmla="*/ 445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8" dur="5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38720" y="3424320"/>
            <a:ext cx="3168720" cy="3433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3416400"/>
            <a:ext cx="3176640" cy="344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143160" y="342900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051000" y="0"/>
            <a:ext cx="316548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194520" y="0"/>
            <a:ext cx="3165480" cy="3429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15080" y="3017880"/>
            <a:ext cx="47221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 Red Ligh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‘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train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molecu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nfra-Red ligh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4290840" cy="358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t around ambient temperature emit infra-red light with a wavelength of about 0.01 mm.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What happens if you knock a molecule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16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olecule is hit, the atoms within a molecule vib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toms are thousands of times heavier than electrons they ‘ring’ with a much lower frequ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ght given off is in the </a:t>
            </a:r>
            <a:r>
              <a:rPr b="1" lang="en-US" sz="2400" spc="-1" strike="noStrike">
                <a:solidFill>
                  <a:srgbClr val="00837d"/>
                </a:solidFill>
                <a:latin typeface="Arial"/>
              </a:rPr>
              <a:t>infra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54400" y="4354560"/>
            <a:ext cx="1236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99cc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05760" y="36799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967360" y="4776840"/>
            <a:ext cx="1320840" cy="1455840"/>
            <a:chOff x="5967360" y="4776840"/>
            <a:chExt cx="1320840" cy="1455840"/>
          </a:xfrm>
        </p:grpSpPr>
        <p:sp>
          <p:nvSpPr>
            <p:cNvPr id="197" name=""/>
            <p:cNvSpPr/>
            <p:nvPr/>
          </p:nvSpPr>
          <p:spPr>
            <a:xfrm>
              <a:off x="6372720" y="4829040"/>
              <a:ext cx="496440" cy="1351080"/>
            </a:xfrm>
            <a:custGeom>
              <a:avLst/>
              <a:gdLst/>
              <a:ahLst/>
              <a:rect l="l" t="t" r="r" b="b"/>
              <a:pathLst>
                <a:path w="680" h="1701">
                  <a:moveTo>
                    <a:pt x="649" y="903"/>
                  </a:moveTo>
                  <a:lnTo>
                    <a:pt x="662" y="817"/>
                  </a:lnTo>
                  <a:lnTo>
                    <a:pt x="671" y="731"/>
                  </a:lnTo>
                  <a:lnTo>
                    <a:pt x="678" y="649"/>
                  </a:lnTo>
                  <a:lnTo>
                    <a:pt x="680" y="570"/>
                  </a:lnTo>
                  <a:lnTo>
                    <a:pt x="680" y="492"/>
                  </a:lnTo>
                  <a:lnTo>
                    <a:pt x="679" y="456"/>
                  </a:lnTo>
                  <a:lnTo>
                    <a:pt x="677" y="421"/>
                  </a:lnTo>
                  <a:lnTo>
                    <a:pt x="674" y="385"/>
                  </a:lnTo>
                  <a:lnTo>
                    <a:pt x="669" y="352"/>
                  </a:lnTo>
                  <a:lnTo>
                    <a:pt x="665" y="319"/>
                  </a:lnTo>
                  <a:lnTo>
                    <a:pt x="660" y="288"/>
                  </a:lnTo>
                  <a:lnTo>
                    <a:pt x="654" y="258"/>
                  </a:lnTo>
                  <a:lnTo>
                    <a:pt x="647" y="230"/>
                  </a:lnTo>
                  <a:lnTo>
                    <a:pt x="640" y="203"/>
                  </a:lnTo>
                  <a:lnTo>
                    <a:pt x="632" y="177"/>
                  </a:lnTo>
                  <a:lnTo>
                    <a:pt x="623" y="153"/>
                  </a:lnTo>
                  <a:lnTo>
                    <a:pt x="614" y="130"/>
                  </a:lnTo>
                  <a:lnTo>
                    <a:pt x="604" y="109"/>
                  </a:lnTo>
                  <a:lnTo>
                    <a:pt x="593" y="90"/>
                  </a:lnTo>
                  <a:lnTo>
                    <a:pt x="582" y="72"/>
                  </a:lnTo>
                  <a:lnTo>
                    <a:pt x="569" y="57"/>
                  </a:lnTo>
                  <a:lnTo>
                    <a:pt x="557" y="42"/>
                  </a:lnTo>
                  <a:lnTo>
                    <a:pt x="543" y="31"/>
                  </a:lnTo>
                  <a:lnTo>
                    <a:pt x="530" y="20"/>
                  </a:lnTo>
                  <a:lnTo>
                    <a:pt x="515" y="12"/>
                  </a:lnTo>
                  <a:lnTo>
                    <a:pt x="499" y="7"/>
                  </a:lnTo>
                  <a:lnTo>
                    <a:pt x="484" y="2"/>
                  </a:lnTo>
                  <a:lnTo>
                    <a:pt x="468" y="0"/>
                  </a:lnTo>
                  <a:lnTo>
                    <a:pt x="452" y="1"/>
                  </a:lnTo>
                  <a:lnTo>
                    <a:pt x="435" y="5"/>
                  </a:lnTo>
                  <a:lnTo>
                    <a:pt x="419" y="9"/>
                  </a:lnTo>
                  <a:lnTo>
                    <a:pt x="403" y="16"/>
                  </a:lnTo>
                  <a:lnTo>
                    <a:pt x="386" y="25"/>
                  </a:lnTo>
                  <a:lnTo>
                    <a:pt x="369" y="36"/>
                  </a:lnTo>
                  <a:lnTo>
                    <a:pt x="353" y="48"/>
                  </a:lnTo>
                  <a:lnTo>
                    <a:pt x="336" y="63"/>
                  </a:lnTo>
                  <a:lnTo>
                    <a:pt x="320" y="80"/>
                  </a:lnTo>
                  <a:lnTo>
                    <a:pt x="304" y="98"/>
                  </a:lnTo>
                  <a:lnTo>
                    <a:pt x="287" y="118"/>
                  </a:lnTo>
                  <a:lnTo>
                    <a:pt x="271" y="139"/>
                  </a:lnTo>
                  <a:lnTo>
                    <a:pt x="256" y="163"/>
                  </a:lnTo>
                  <a:lnTo>
                    <a:pt x="240" y="187"/>
                  </a:lnTo>
                  <a:lnTo>
                    <a:pt x="224" y="214"/>
                  </a:lnTo>
                  <a:lnTo>
                    <a:pt x="209" y="241"/>
                  </a:lnTo>
                  <a:lnTo>
                    <a:pt x="194" y="270"/>
                  </a:lnTo>
                  <a:lnTo>
                    <a:pt x="180" y="301"/>
                  </a:lnTo>
                  <a:lnTo>
                    <a:pt x="165" y="333"/>
                  </a:lnTo>
                  <a:lnTo>
                    <a:pt x="151" y="366"/>
                  </a:lnTo>
                  <a:lnTo>
                    <a:pt x="138" y="400"/>
                  </a:lnTo>
                  <a:lnTo>
                    <a:pt x="124" y="435"/>
                  </a:lnTo>
                  <a:lnTo>
                    <a:pt x="112" y="472"/>
                  </a:lnTo>
                  <a:lnTo>
                    <a:pt x="100" y="509"/>
                  </a:lnTo>
                  <a:lnTo>
                    <a:pt x="89" y="548"/>
                  </a:lnTo>
                  <a:lnTo>
                    <a:pt x="67" y="628"/>
                  </a:lnTo>
                  <a:lnTo>
                    <a:pt x="48" y="711"/>
                  </a:lnTo>
                  <a:lnTo>
                    <a:pt x="32" y="798"/>
                  </a:lnTo>
                  <a:lnTo>
                    <a:pt x="18" y="885"/>
                  </a:lnTo>
                  <a:lnTo>
                    <a:pt x="9" y="970"/>
                  </a:lnTo>
                  <a:lnTo>
                    <a:pt x="2" y="1052"/>
                  </a:lnTo>
                  <a:lnTo>
                    <a:pt x="0" y="1133"/>
                  </a:lnTo>
                  <a:lnTo>
                    <a:pt x="0" y="1209"/>
                  </a:lnTo>
                  <a:lnTo>
                    <a:pt x="1" y="1245"/>
                  </a:lnTo>
                  <a:lnTo>
                    <a:pt x="3" y="1281"/>
                  </a:lnTo>
                  <a:lnTo>
                    <a:pt x="7" y="1316"/>
                  </a:lnTo>
                  <a:lnTo>
                    <a:pt x="11" y="1350"/>
                  </a:lnTo>
                  <a:lnTo>
                    <a:pt x="15" y="1382"/>
                  </a:lnTo>
                  <a:lnTo>
                    <a:pt x="20" y="1413"/>
                  </a:lnTo>
                  <a:lnTo>
                    <a:pt x="26" y="1443"/>
                  </a:lnTo>
                  <a:lnTo>
                    <a:pt x="33" y="1472"/>
                  </a:lnTo>
                  <a:lnTo>
                    <a:pt x="40" y="1499"/>
                  </a:lnTo>
                  <a:lnTo>
                    <a:pt x="48" y="1525"/>
                  </a:lnTo>
                  <a:lnTo>
                    <a:pt x="57" y="1549"/>
                  </a:lnTo>
                  <a:lnTo>
                    <a:pt x="66" y="1572"/>
                  </a:lnTo>
                  <a:lnTo>
                    <a:pt x="76" y="1593"/>
                  </a:lnTo>
                  <a:lnTo>
                    <a:pt x="87" y="1611"/>
                  </a:lnTo>
                  <a:lnTo>
                    <a:pt x="98" y="1629"/>
                  </a:lnTo>
                  <a:lnTo>
                    <a:pt x="111" y="1645"/>
                  </a:lnTo>
                  <a:lnTo>
                    <a:pt x="123" y="1659"/>
                  </a:lnTo>
                  <a:lnTo>
                    <a:pt x="137" y="1671"/>
                  </a:lnTo>
                  <a:lnTo>
                    <a:pt x="150" y="1681"/>
                  </a:lnTo>
                  <a:lnTo>
                    <a:pt x="165" y="1690"/>
                  </a:lnTo>
                  <a:lnTo>
                    <a:pt x="181" y="1695"/>
                  </a:lnTo>
                  <a:lnTo>
                    <a:pt x="196" y="1699"/>
                  </a:lnTo>
                  <a:lnTo>
                    <a:pt x="212" y="1701"/>
                  </a:lnTo>
                  <a:lnTo>
                    <a:pt x="229" y="1700"/>
                  </a:lnTo>
                  <a:lnTo>
                    <a:pt x="245" y="1697"/>
                  </a:lnTo>
                  <a:lnTo>
                    <a:pt x="261" y="1693"/>
                  </a:lnTo>
                  <a:lnTo>
                    <a:pt x="278" y="1685"/>
                  </a:lnTo>
                  <a:lnTo>
                    <a:pt x="294" y="1676"/>
                  </a:lnTo>
                  <a:lnTo>
                    <a:pt x="311" y="1666"/>
                  </a:lnTo>
                  <a:lnTo>
                    <a:pt x="328" y="1653"/>
                  </a:lnTo>
                  <a:lnTo>
                    <a:pt x="344" y="1638"/>
                  </a:lnTo>
                  <a:lnTo>
                    <a:pt x="360" y="1622"/>
                  </a:lnTo>
                  <a:lnTo>
                    <a:pt x="377" y="1603"/>
                  </a:lnTo>
                  <a:lnTo>
                    <a:pt x="393" y="1583"/>
                  </a:lnTo>
                  <a:lnTo>
                    <a:pt x="409" y="1562"/>
                  </a:lnTo>
                  <a:lnTo>
                    <a:pt x="424" y="1538"/>
                  </a:lnTo>
                  <a:lnTo>
                    <a:pt x="440" y="1514"/>
                  </a:lnTo>
                  <a:lnTo>
                    <a:pt x="456" y="1487"/>
                  </a:lnTo>
                  <a:lnTo>
                    <a:pt x="471" y="1460"/>
                  </a:lnTo>
                  <a:lnTo>
                    <a:pt x="486" y="1431"/>
                  </a:lnTo>
                  <a:lnTo>
                    <a:pt x="501" y="1401"/>
                  </a:lnTo>
                  <a:lnTo>
                    <a:pt x="515" y="1368"/>
                  </a:lnTo>
                  <a:lnTo>
                    <a:pt x="529" y="1335"/>
                  </a:lnTo>
                  <a:lnTo>
                    <a:pt x="542" y="1302"/>
                  </a:lnTo>
                  <a:lnTo>
                    <a:pt x="556" y="1266"/>
                  </a:lnTo>
                  <a:lnTo>
                    <a:pt x="568" y="1230"/>
                  </a:lnTo>
                  <a:lnTo>
                    <a:pt x="580" y="1192"/>
                  </a:lnTo>
                  <a:lnTo>
                    <a:pt x="591" y="1154"/>
                  </a:lnTo>
                  <a:lnTo>
                    <a:pt x="613" y="1073"/>
                  </a:lnTo>
                  <a:lnTo>
                    <a:pt x="632" y="990"/>
                  </a:lnTo>
                  <a:lnTo>
                    <a:pt x="649" y="903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482520" y="6111720"/>
              <a:ext cx="109800" cy="120960"/>
              <a:chOff x="6482520" y="6111720"/>
              <a:chExt cx="109800" cy="120960"/>
            </a:xfrm>
          </p:grpSpPr>
          <p:sp>
            <p:nvSpPr>
              <p:cNvPr id="199" name=""/>
              <p:cNvSpPr/>
              <p:nvPr/>
            </p:nvSpPr>
            <p:spPr>
              <a:xfrm>
                <a:off x="6482520" y="6111720"/>
                <a:ext cx="109800" cy="12096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03040" y="6167520"/>
                <a:ext cx="669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002280" y="5224320"/>
              <a:ext cx="1237320" cy="559080"/>
            </a:xfrm>
            <a:custGeom>
              <a:avLst/>
              <a:gdLst/>
              <a:ahLst/>
              <a:rect l="l" t="t" r="r" b="b"/>
              <a:pathLst>
                <a:path w="1689" h="704">
                  <a:moveTo>
                    <a:pt x="782" y="46"/>
                  </a:moveTo>
                  <a:lnTo>
                    <a:pt x="696" y="64"/>
                  </a:lnTo>
                  <a:lnTo>
                    <a:pt x="613" y="86"/>
                  </a:lnTo>
                  <a:lnTo>
                    <a:pt x="535" y="110"/>
                  </a:lnTo>
                  <a:lnTo>
                    <a:pt x="496" y="124"/>
                  </a:lnTo>
                  <a:lnTo>
                    <a:pt x="458" y="136"/>
                  </a:lnTo>
                  <a:lnTo>
                    <a:pt x="423" y="151"/>
                  </a:lnTo>
                  <a:lnTo>
                    <a:pt x="388" y="165"/>
                  </a:lnTo>
                  <a:lnTo>
                    <a:pt x="354" y="179"/>
                  </a:lnTo>
                  <a:lnTo>
                    <a:pt x="322" y="195"/>
                  </a:lnTo>
                  <a:lnTo>
                    <a:pt x="291" y="209"/>
                  </a:lnTo>
                  <a:lnTo>
                    <a:pt x="260" y="225"/>
                  </a:lnTo>
                  <a:lnTo>
                    <a:pt x="231" y="241"/>
                  </a:lnTo>
                  <a:lnTo>
                    <a:pt x="204" y="257"/>
                  </a:lnTo>
                  <a:lnTo>
                    <a:pt x="179" y="274"/>
                  </a:lnTo>
                  <a:lnTo>
                    <a:pt x="155" y="290"/>
                  </a:lnTo>
                  <a:lnTo>
                    <a:pt x="132" y="306"/>
                  </a:lnTo>
                  <a:lnTo>
                    <a:pt x="111" y="324"/>
                  </a:lnTo>
                  <a:lnTo>
                    <a:pt x="92" y="341"/>
                  </a:lnTo>
                  <a:lnTo>
                    <a:pt x="74" y="357"/>
                  </a:lnTo>
                  <a:lnTo>
                    <a:pt x="58" y="374"/>
                  </a:lnTo>
                  <a:lnTo>
                    <a:pt x="44" y="392"/>
                  </a:lnTo>
                  <a:lnTo>
                    <a:pt x="32" y="408"/>
                  </a:lnTo>
                  <a:lnTo>
                    <a:pt x="22" y="425"/>
                  </a:lnTo>
                  <a:lnTo>
                    <a:pt x="13" y="442"/>
                  </a:lnTo>
                  <a:lnTo>
                    <a:pt x="6" y="460"/>
                  </a:lnTo>
                  <a:lnTo>
                    <a:pt x="2" y="475"/>
                  </a:lnTo>
                  <a:lnTo>
                    <a:pt x="0" y="492"/>
                  </a:lnTo>
                  <a:lnTo>
                    <a:pt x="0" y="509"/>
                  </a:lnTo>
                  <a:lnTo>
                    <a:pt x="2" y="524"/>
                  </a:lnTo>
                  <a:lnTo>
                    <a:pt x="6" y="540"/>
                  </a:lnTo>
                  <a:lnTo>
                    <a:pt x="12" y="554"/>
                  </a:lnTo>
                  <a:lnTo>
                    <a:pt x="21" y="569"/>
                  </a:lnTo>
                  <a:lnTo>
                    <a:pt x="32" y="583"/>
                  </a:lnTo>
                  <a:lnTo>
                    <a:pt x="44" y="595"/>
                  </a:lnTo>
                  <a:lnTo>
                    <a:pt x="58" y="608"/>
                  </a:lnTo>
                  <a:lnTo>
                    <a:pt x="75" y="619"/>
                  </a:lnTo>
                  <a:lnTo>
                    <a:pt x="93" y="630"/>
                  </a:lnTo>
                  <a:lnTo>
                    <a:pt x="112" y="640"/>
                  </a:lnTo>
                  <a:lnTo>
                    <a:pt x="133" y="649"/>
                  </a:lnTo>
                  <a:lnTo>
                    <a:pt x="156" y="658"/>
                  </a:lnTo>
                  <a:lnTo>
                    <a:pt x="181" y="666"/>
                  </a:lnTo>
                  <a:lnTo>
                    <a:pt x="207" y="673"/>
                  </a:lnTo>
                  <a:lnTo>
                    <a:pt x="234" y="680"/>
                  </a:lnTo>
                  <a:lnTo>
                    <a:pt x="263" y="686"/>
                  </a:lnTo>
                  <a:lnTo>
                    <a:pt x="293" y="690"/>
                  </a:lnTo>
                  <a:lnTo>
                    <a:pt x="324" y="694"/>
                  </a:lnTo>
                  <a:lnTo>
                    <a:pt x="357" y="698"/>
                  </a:lnTo>
                  <a:lnTo>
                    <a:pt x="391" y="700"/>
                  </a:lnTo>
                  <a:lnTo>
                    <a:pt x="425" y="703"/>
                  </a:lnTo>
                  <a:lnTo>
                    <a:pt x="498" y="704"/>
                  </a:lnTo>
                  <a:lnTo>
                    <a:pt x="574" y="702"/>
                  </a:lnTo>
                  <a:lnTo>
                    <a:pt x="654" y="695"/>
                  </a:lnTo>
                  <a:lnTo>
                    <a:pt x="737" y="687"/>
                  </a:lnTo>
                  <a:lnTo>
                    <a:pt x="821" y="674"/>
                  </a:lnTo>
                  <a:lnTo>
                    <a:pt x="908" y="658"/>
                  </a:lnTo>
                  <a:lnTo>
                    <a:pt x="993" y="639"/>
                  </a:lnTo>
                  <a:lnTo>
                    <a:pt x="1076" y="617"/>
                  </a:lnTo>
                  <a:lnTo>
                    <a:pt x="1156" y="593"/>
                  </a:lnTo>
                  <a:lnTo>
                    <a:pt x="1193" y="580"/>
                  </a:lnTo>
                  <a:lnTo>
                    <a:pt x="1231" y="567"/>
                  </a:lnTo>
                  <a:lnTo>
                    <a:pt x="1266" y="552"/>
                  </a:lnTo>
                  <a:lnTo>
                    <a:pt x="1302" y="539"/>
                  </a:lnTo>
                  <a:lnTo>
                    <a:pt x="1335" y="524"/>
                  </a:lnTo>
                  <a:lnTo>
                    <a:pt x="1367" y="510"/>
                  </a:lnTo>
                  <a:lnTo>
                    <a:pt x="1398" y="494"/>
                  </a:lnTo>
                  <a:lnTo>
                    <a:pt x="1429" y="478"/>
                  </a:lnTo>
                  <a:lnTo>
                    <a:pt x="1458" y="463"/>
                  </a:lnTo>
                  <a:lnTo>
                    <a:pt x="1485" y="446"/>
                  </a:lnTo>
                  <a:lnTo>
                    <a:pt x="1510" y="429"/>
                  </a:lnTo>
                  <a:lnTo>
                    <a:pt x="1535" y="414"/>
                  </a:lnTo>
                  <a:lnTo>
                    <a:pt x="1557" y="397"/>
                  </a:lnTo>
                  <a:lnTo>
                    <a:pt x="1578" y="379"/>
                  </a:lnTo>
                  <a:lnTo>
                    <a:pt x="1598" y="363"/>
                  </a:lnTo>
                  <a:lnTo>
                    <a:pt x="1615" y="346"/>
                  </a:lnTo>
                  <a:lnTo>
                    <a:pt x="1631" y="329"/>
                  </a:lnTo>
                  <a:lnTo>
                    <a:pt x="1645" y="312"/>
                  </a:lnTo>
                  <a:lnTo>
                    <a:pt x="1658" y="295"/>
                  </a:lnTo>
                  <a:lnTo>
                    <a:pt x="1667" y="278"/>
                  </a:lnTo>
                  <a:lnTo>
                    <a:pt x="1677" y="261"/>
                  </a:lnTo>
                  <a:lnTo>
                    <a:pt x="1683" y="245"/>
                  </a:lnTo>
                  <a:lnTo>
                    <a:pt x="1687" y="228"/>
                  </a:lnTo>
                  <a:lnTo>
                    <a:pt x="1689" y="211"/>
                  </a:lnTo>
                  <a:lnTo>
                    <a:pt x="1689" y="195"/>
                  </a:lnTo>
                  <a:lnTo>
                    <a:pt x="1687" y="179"/>
                  </a:lnTo>
                  <a:lnTo>
                    <a:pt x="1683" y="163"/>
                  </a:lnTo>
                  <a:lnTo>
                    <a:pt x="1677" y="149"/>
                  </a:lnTo>
                  <a:lnTo>
                    <a:pt x="1667" y="134"/>
                  </a:lnTo>
                  <a:lnTo>
                    <a:pt x="1657" y="121"/>
                  </a:lnTo>
                  <a:lnTo>
                    <a:pt x="1644" y="108"/>
                  </a:lnTo>
                  <a:lnTo>
                    <a:pt x="1631" y="96"/>
                  </a:lnTo>
                  <a:lnTo>
                    <a:pt x="1614" y="84"/>
                  </a:lnTo>
                  <a:lnTo>
                    <a:pt x="1596" y="74"/>
                  </a:lnTo>
                  <a:lnTo>
                    <a:pt x="1577" y="63"/>
                  </a:lnTo>
                  <a:lnTo>
                    <a:pt x="1555" y="54"/>
                  </a:lnTo>
                  <a:lnTo>
                    <a:pt x="1532" y="46"/>
                  </a:lnTo>
                  <a:lnTo>
                    <a:pt x="1508" y="37"/>
                  </a:lnTo>
                  <a:lnTo>
                    <a:pt x="1482" y="30"/>
                  </a:lnTo>
                  <a:lnTo>
                    <a:pt x="1455" y="24"/>
                  </a:lnTo>
                  <a:lnTo>
                    <a:pt x="1426" y="19"/>
                  </a:lnTo>
                  <a:lnTo>
                    <a:pt x="1395" y="13"/>
                  </a:lnTo>
                  <a:lnTo>
                    <a:pt x="1364" y="9"/>
                  </a:lnTo>
                  <a:lnTo>
                    <a:pt x="1332" y="6"/>
                  </a:lnTo>
                  <a:lnTo>
                    <a:pt x="1298" y="3"/>
                  </a:lnTo>
                  <a:lnTo>
                    <a:pt x="1263" y="1"/>
                  </a:lnTo>
                  <a:lnTo>
                    <a:pt x="1191" y="0"/>
                  </a:lnTo>
                  <a:lnTo>
                    <a:pt x="1115" y="2"/>
                  </a:lnTo>
                  <a:lnTo>
                    <a:pt x="1035" y="8"/>
                  </a:lnTo>
                  <a:lnTo>
                    <a:pt x="952" y="16"/>
                  </a:lnTo>
                  <a:lnTo>
                    <a:pt x="868" y="30"/>
                  </a:lnTo>
                  <a:lnTo>
                    <a:pt x="782" y="4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95200" y="5519880"/>
              <a:ext cx="49680" cy="53640"/>
            </a:xfrm>
            <a:prstGeom prst="ellipse">
              <a:avLst/>
            </a:prstGeom>
            <a:solidFill>
              <a:srgbClr val="ff0000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7840" y="5362560"/>
              <a:ext cx="99360" cy="363600"/>
            </a:xfrm>
            <a:prstGeom prst="ellipse">
              <a:avLst/>
            </a:prstGeom>
            <a:noFill/>
            <a:ln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636240" y="4776840"/>
              <a:ext cx="111240" cy="120600"/>
              <a:chOff x="6636240" y="4776840"/>
              <a:chExt cx="111240" cy="12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6636240" y="477684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59280" y="4832280"/>
                <a:ext cx="6588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967360" y="5578560"/>
              <a:ext cx="111240" cy="120600"/>
              <a:chOff x="5967360" y="5578560"/>
              <a:chExt cx="111240" cy="120600"/>
            </a:xfrm>
          </p:grpSpPr>
          <p:sp>
            <p:nvSpPr>
              <p:cNvPr id="208" name=""/>
              <p:cNvSpPr/>
              <p:nvPr/>
            </p:nvSpPr>
            <p:spPr>
              <a:xfrm>
                <a:off x="5967360" y="557856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88960" y="5632560"/>
                <a:ext cx="6732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176960" y="5316480"/>
              <a:ext cx="111240" cy="119160"/>
              <a:chOff x="7176960" y="5316480"/>
              <a:chExt cx="111240" cy="119160"/>
            </a:xfrm>
          </p:grpSpPr>
          <p:sp>
            <p:nvSpPr>
              <p:cNvPr id="211" name=""/>
              <p:cNvSpPr/>
              <p:nvPr/>
            </p:nvSpPr>
            <p:spPr>
              <a:xfrm>
                <a:off x="7176960" y="5316480"/>
                <a:ext cx="111240" cy="11916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98560" y="5370480"/>
                <a:ext cx="673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604200" y="5338800"/>
              <a:ext cx="109800" cy="120600"/>
              <a:chOff x="6604200" y="5338800"/>
              <a:chExt cx="109800" cy="120600"/>
            </a:xfrm>
          </p:grpSpPr>
          <p:sp>
            <p:nvSpPr>
              <p:cNvPr id="214" name=""/>
              <p:cNvSpPr/>
              <p:nvPr/>
            </p:nvSpPr>
            <p:spPr>
              <a:xfrm>
                <a:off x="6604200" y="5338800"/>
                <a:ext cx="10980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4720" y="5394240"/>
                <a:ext cx="655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6537960" y="5621400"/>
              <a:ext cx="111240" cy="120600"/>
              <a:chOff x="6537960" y="5621400"/>
              <a:chExt cx="111240" cy="120600"/>
            </a:xfrm>
          </p:grpSpPr>
          <p:sp>
            <p:nvSpPr>
              <p:cNvPr id="217" name=""/>
              <p:cNvSpPr/>
              <p:nvPr/>
            </p:nvSpPr>
            <p:spPr>
              <a:xfrm>
                <a:off x="6537960" y="5621400"/>
                <a:ext cx="111240" cy="120600"/>
              </a:xfrm>
              <a:prstGeom prst="ellipse">
                <a:avLst/>
              </a:prstGeom>
              <a:solidFill>
                <a:srgbClr val="00ff00"/>
              </a:solidFill>
              <a:ln w="4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9920" y="5675400"/>
                <a:ext cx="655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6139800" y="4987800"/>
              <a:ext cx="925560" cy="1049400"/>
            </a:xfrm>
            <a:custGeom>
              <a:avLst/>
              <a:gdLst/>
              <a:ahLst/>
              <a:rect l="l" t="t" r="r" b="b"/>
              <a:pathLst>
                <a:path w="1265" h="1324">
                  <a:moveTo>
                    <a:pt x="405" y="876"/>
                  </a:moveTo>
                  <a:lnTo>
                    <a:pt x="345" y="812"/>
                  </a:lnTo>
                  <a:lnTo>
                    <a:pt x="317" y="778"/>
                  </a:lnTo>
                  <a:lnTo>
                    <a:pt x="291" y="746"/>
                  </a:lnTo>
                  <a:lnTo>
                    <a:pt x="265" y="714"/>
                  </a:lnTo>
                  <a:lnTo>
                    <a:pt x="240" y="681"/>
                  </a:lnTo>
                  <a:lnTo>
                    <a:pt x="216" y="648"/>
                  </a:lnTo>
                  <a:lnTo>
                    <a:pt x="193" y="616"/>
                  </a:lnTo>
                  <a:lnTo>
                    <a:pt x="171" y="584"/>
                  </a:lnTo>
                  <a:lnTo>
                    <a:pt x="152" y="552"/>
                  </a:lnTo>
                  <a:lnTo>
                    <a:pt x="132" y="521"/>
                  </a:lnTo>
                  <a:lnTo>
                    <a:pt x="114" y="491"/>
                  </a:lnTo>
                  <a:lnTo>
                    <a:pt x="97" y="459"/>
                  </a:lnTo>
                  <a:lnTo>
                    <a:pt x="82" y="430"/>
                  </a:lnTo>
                  <a:lnTo>
                    <a:pt x="67" y="400"/>
                  </a:lnTo>
                  <a:lnTo>
                    <a:pt x="55" y="372"/>
                  </a:lnTo>
                  <a:lnTo>
                    <a:pt x="43" y="344"/>
                  </a:lnTo>
                  <a:lnTo>
                    <a:pt x="33" y="315"/>
                  </a:lnTo>
                  <a:lnTo>
                    <a:pt x="23" y="289"/>
                  </a:lnTo>
                  <a:lnTo>
                    <a:pt x="16" y="263"/>
                  </a:lnTo>
                  <a:lnTo>
                    <a:pt x="10" y="238"/>
                  </a:lnTo>
                  <a:lnTo>
                    <a:pt x="6" y="214"/>
                  </a:lnTo>
                  <a:lnTo>
                    <a:pt x="3" y="191"/>
                  </a:lnTo>
                  <a:lnTo>
                    <a:pt x="0" y="169"/>
                  </a:lnTo>
                  <a:lnTo>
                    <a:pt x="0" y="148"/>
                  </a:lnTo>
                  <a:lnTo>
                    <a:pt x="1" y="128"/>
                  </a:lnTo>
                  <a:lnTo>
                    <a:pt x="5" y="110"/>
                  </a:lnTo>
                  <a:lnTo>
                    <a:pt x="9" y="92"/>
                  </a:lnTo>
                  <a:lnTo>
                    <a:pt x="14" y="76"/>
                  </a:lnTo>
                  <a:lnTo>
                    <a:pt x="22" y="61"/>
                  </a:lnTo>
                  <a:lnTo>
                    <a:pt x="32" y="47"/>
                  </a:lnTo>
                  <a:lnTo>
                    <a:pt x="42" y="36"/>
                  </a:lnTo>
                  <a:lnTo>
                    <a:pt x="55" y="26"/>
                  </a:lnTo>
                  <a:lnTo>
                    <a:pt x="68" y="17"/>
                  </a:lnTo>
                  <a:lnTo>
                    <a:pt x="84" y="11"/>
                  </a:lnTo>
                  <a:lnTo>
                    <a:pt x="100" y="6"/>
                  </a:lnTo>
                  <a:lnTo>
                    <a:pt x="118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8" y="2"/>
                  </a:lnTo>
                  <a:lnTo>
                    <a:pt x="199" y="5"/>
                  </a:lnTo>
                  <a:lnTo>
                    <a:pt x="222" y="9"/>
                  </a:lnTo>
                  <a:lnTo>
                    <a:pt x="245" y="15"/>
                  </a:lnTo>
                  <a:lnTo>
                    <a:pt x="270" y="22"/>
                  </a:lnTo>
                  <a:lnTo>
                    <a:pt x="295" y="32"/>
                  </a:lnTo>
                  <a:lnTo>
                    <a:pt x="321" y="42"/>
                  </a:lnTo>
                  <a:lnTo>
                    <a:pt x="349" y="54"/>
                  </a:lnTo>
                  <a:lnTo>
                    <a:pt x="377" y="67"/>
                  </a:lnTo>
                  <a:lnTo>
                    <a:pt x="404" y="82"/>
                  </a:lnTo>
                  <a:lnTo>
                    <a:pt x="433" y="97"/>
                  </a:lnTo>
                  <a:lnTo>
                    <a:pt x="462" y="115"/>
                  </a:lnTo>
                  <a:lnTo>
                    <a:pt x="491" y="134"/>
                  </a:lnTo>
                  <a:lnTo>
                    <a:pt x="522" y="154"/>
                  </a:lnTo>
                  <a:lnTo>
                    <a:pt x="552" y="175"/>
                  </a:lnTo>
                  <a:lnTo>
                    <a:pt x="582" y="197"/>
                  </a:lnTo>
                  <a:lnTo>
                    <a:pt x="612" y="221"/>
                  </a:lnTo>
                  <a:lnTo>
                    <a:pt x="643" y="244"/>
                  </a:lnTo>
                  <a:lnTo>
                    <a:pt x="675" y="271"/>
                  </a:lnTo>
                  <a:lnTo>
                    <a:pt x="706" y="298"/>
                  </a:lnTo>
                  <a:lnTo>
                    <a:pt x="736" y="325"/>
                  </a:lnTo>
                  <a:lnTo>
                    <a:pt x="767" y="354"/>
                  </a:lnTo>
                  <a:lnTo>
                    <a:pt x="799" y="384"/>
                  </a:lnTo>
                  <a:lnTo>
                    <a:pt x="860" y="447"/>
                  </a:lnTo>
                  <a:lnTo>
                    <a:pt x="920" y="512"/>
                  </a:lnTo>
                  <a:lnTo>
                    <a:pt x="948" y="545"/>
                  </a:lnTo>
                  <a:lnTo>
                    <a:pt x="974" y="577"/>
                  </a:lnTo>
                  <a:lnTo>
                    <a:pt x="1000" y="610"/>
                  </a:lnTo>
                  <a:lnTo>
                    <a:pt x="1025" y="643"/>
                  </a:lnTo>
                  <a:lnTo>
                    <a:pt x="1049" y="675"/>
                  </a:lnTo>
                  <a:lnTo>
                    <a:pt x="1072" y="707"/>
                  </a:lnTo>
                  <a:lnTo>
                    <a:pt x="1094" y="740"/>
                  </a:lnTo>
                  <a:lnTo>
                    <a:pt x="1113" y="771"/>
                  </a:lnTo>
                  <a:lnTo>
                    <a:pt x="1133" y="802"/>
                  </a:lnTo>
                  <a:lnTo>
                    <a:pt x="1151" y="834"/>
                  </a:lnTo>
                  <a:lnTo>
                    <a:pt x="1168" y="864"/>
                  </a:lnTo>
                  <a:lnTo>
                    <a:pt x="1183" y="894"/>
                  </a:lnTo>
                  <a:lnTo>
                    <a:pt x="1197" y="923"/>
                  </a:lnTo>
                  <a:lnTo>
                    <a:pt x="1210" y="952"/>
                  </a:lnTo>
                  <a:lnTo>
                    <a:pt x="1222" y="981"/>
                  </a:lnTo>
                  <a:lnTo>
                    <a:pt x="1232" y="1009"/>
                  </a:lnTo>
                  <a:lnTo>
                    <a:pt x="1241" y="1035"/>
                  </a:lnTo>
                  <a:lnTo>
                    <a:pt x="1249" y="1061"/>
                  </a:lnTo>
                  <a:lnTo>
                    <a:pt x="1255" y="1086"/>
                  </a:lnTo>
                  <a:lnTo>
                    <a:pt x="1259" y="1110"/>
                  </a:lnTo>
                  <a:lnTo>
                    <a:pt x="1262" y="1133"/>
                  </a:lnTo>
                  <a:lnTo>
                    <a:pt x="1265" y="1155"/>
                  </a:lnTo>
                  <a:lnTo>
                    <a:pt x="1265" y="1176"/>
                  </a:lnTo>
                  <a:lnTo>
                    <a:pt x="1264" y="1195"/>
                  </a:lnTo>
                  <a:lnTo>
                    <a:pt x="1260" y="1214"/>
                  </a:lnTo>
                  <a:lnTo>
                    <a:pt x="1256" y="1232"/>
                  </a:lnTo>
                  <a:lnTo>
                    <a:pt x="1250" y="1248"/>
                  </a:lnTo>
                  <a:lnTo>
                    <a:pt x="1243" y="1262"/>
                  </a:lnTo>
                  <a:lnTo>
                    <a:pt x="1233" y="1276"/>
                  </a:lnTo>
                  <a:lnTo>
                    <a:pt x="1222" y="1287"/>
                  </a:lnTo>
                  <a:lnTo>
                    <a:pt x="1209" y="1298"/>
                  </a:lnTo>
                  <a:lnTo>
                    <a:pt x="1196" y="1306"/>
                  </a:lnTo>
                  <a:lnTo>
                    <a:pt x="1180" y="1313"/>
                  </a:lnTo>
                  <a:lnTo>
                    <a:pt x="1165" y="1317"/>
                  </a:lnTo>
                  <a:lnTo>
                    <a:pt x="1147" y="1322"/>
                  </a:lnTo>
                  <a:lnTo>
                    <a:pt x="1128" y="1323"/>
                  </a:lnTo>
                  <a:lnTo>
                    <a:pt x="1108" y="1324"/>
                  </a:lnTo>
                  <a:lnTo>
                    <a:pt x="1087" y="1322"/>
                  </a:lnTo>
                  <a:lnTo>
                    <a:pt x="1066" y="1318"/>
                  </a:lnTo>
                  <a:lnTo>
                    <a:pt x="1043" y="1314"/>
                  </a:lnTo>
                  <a:lnTo>
                    <a:pt x="1019" y="1308"/>
                  </a:lnTo>
                  <a:lnTo>
                    <a:pt x="995" y="1301"/>
                  </a:lnTo>
                  <a:lnTo>
                    <a:pt x="969" y="1291"/>
                  </a:lnTo>
                  <a:lnTo>
                    <a:pt x="943" y="1281"/>
                  </a:lnTo>
                  <a:lnTo>
                    <a:pt x="916" y="1269"/>
                  </a:lnTo>
                  <a:lnTo>
                    <a:pt x="888" y="1256"/>
                  </a:lnTo>
                  <a:lnTo>
                    <a:pt x="861" y="1241"/>
                  </a:lnTo>
                  <a:lnTo>
                    <a:pt x="832" y="1226"/>
                  </a:lnTo>
                  <a:lnTo>
                    <a:pt x="803" y="1208"/>
                  </a:lnTo>
                  <a:lnTo>
                    <a:pt x="774" y="1189"/>
                  </a:lnTo>
                  <a:lnTo>
                    <a:pt x="743" y="1169"/>
                  </a:lnTo>
                  <a:lnTo>
                    <a:pt x="713" y="1149"/>
                  </a:lnTo>
                  <a:lnTo>
                    <a:pt x="683" y="1127"/>
                  </a:lnTo>
                  <a:lnTo>
                    <a:pt x="653" y="1103"/>
                  </a:lnTo>
                  <a:lnTo>
                    <a:pt x="622" y="1079"/>
                  </a:lnTo>
                  <a:lnTo>
                    <a:pt x="590" y="1053"/>
                  </a:lnTo>
                  <a:lnTo>
                    <a:pt x="560" y="1025"/>
                  </a:lnTo>
                  <a:lnTo>
                    <a:pt x="529" y="998"/>
                  </a:lnTo>
                  <a:lnTo>
                    <a:pt x="498" y="969"/>
                  </a:lnTo>
                  <a:lnTo>
                    <a:pt x="466" y="939"/>
                  </a:lnTo>
                  <a:lnTo>
                    <a:pt x="405" y="87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504040" y="3795840"/>
            <a:ext cx="1218960" cy="1369440"/>
            <a:chOff x="5504040" y="3795840"/>
            <a:chExt cx="1218960" cy="1369440"/>
          </a:xfrm>
        </p:grpSpPr>
        <p:sp>
          <p:nvSpPr>
            <p:cNvPr id="221" name=""/>
            <p:cNvSpPr/>
            <p:nvPr/>
          </p:nvSpPr>
          <p:spPr>
            <a:xfrm>
              <a:off x="5691600" y="3892320"/>
              <a:ext cx="842040" cy="1130040"/>
            </a:xfrm>
            <a:custGeom>
              <a:avLst/>
              <a:gdLst/>
              <a:ahLst/>
              <a:rect l="l" t="t" r="r" b="b"/>
              <a:pathLst>
                <a:path w="1151" h="1423">
                  <a:moveTo>
                    <a:pt x="825" y="900"/>
                  </a:moveTo>
                  <a:lnTo>
                    <a:pt x="877" y="829"/>
                  </a:lnTo>
                  <a:lnTo>
                    <a:pt x="925" y="758"/>
                  </a:lnTo>
                  <a:lnTo>
                    <a:pt x="946" y="722"/>
                  </a:lnTo>
                  <a:lnTo>
                    <a:pt x="967" y="687"/>
                  </a:lnTo>
                  <a:lnTo>
                    <a:pt x="988" y="653"/>
                  </a:lnTo>
                  <a:lnTo>
                    <a:pt x="1007" y="617"/>
                  </a:lnTo>
                  <a:lnTo>
                    <a:pt x="1025" y="584"/>
                  </a:lnTo>
                  <a:lnTo>
                    <a:pt x="1042" y="549"/>
                  </a:lnTo>
                  <a:lnTo>
                    <a:pt x="1058" y="516"/>
                  </a:lnTo>
                  <a:lnTo>
                    <a:pt x="1073" y="484"/>
                  </a:lnTo>
                  <a:lnTo>
                    <a:pt x="1085" y="451"/>
                  </a:lnTo>
                  <a:lnTo>
                    <a:pt x="1098" y="420"/>
                  </a:lnTo>
                  <a:lnTo>
                    <a:pt x="1109" y="389"/>
                  </a:lnTo>
                  <a:lnTo>
                    <a:pt x="1118" y="360"/>
                  </a:lnTo>
                  <a:lnTo>
                    <a:pt x="1127" y="329"/>
                  </a:lnTo>
                  <a:lnTo>
                    <a:pt x="1134" y="301"/>
                  </a:lnTo>
                  <a:lnTo>
                    <a:pt x="1140" y="274"/>
                  </a:lnTo>
                  <a:lnTo>
                    <a:pt x="1144" y="247"/>
                  </a:lnTo>
                  <a:lnTo>
                    <a:pt x="1149" y="222"/>
                  </a:lnTo>
                  <a:lnTo>
                    <a:pt x="1151" y="198"/>
                  </a:lnTo>
                  <a:lnTo>
                    <a:pt x="1151" y="174"/>
                  </a:lnTo>
                  <a:lnTo>
                    <a:pt x="1151" y="152"/>
                  </a:lnTo>
                  <a:lnTo>
                    <a:pt x="1149" y="131"/>
                  </a:lnTo>
                  <a:lnTo>
                    <a:pt x="1144" y="111"/>
                  </a:lnTo>
                  <a:lnTo>
                    <a:pt x="1139" y="94"/>
                  </a:lnTo>
                  <a:lnTo>
                    <a:pt x="1133" y="77"/>
                  </a:lnTo>
                  <a:lnTo>
                    <a:pt x="1126" y="61"/>
                  </a:lnTo>
                  <a:lnTo>
                    <a:pt x="1116" y="48"/>
                  </a:lnTo>
                  <a:lnTo>
                    <a:pt x="1106" y="35"/>
                  </a:lnTo>
                  <a:lnTo>
                    <a:pt x="1093" y="25"/>
                  </a:lnTo>
                  <a:lnTo>
                    <a:pt x="1080" y="17"/>
                  </a:lnTo>
                  <a:lnTo>
                    <a:pt x="1065" y="9"/>
                  </a:lnTo>
                  <a:lnTo>
                    <a:pt x="1050" y="4"/>
                  </a:lnTo>
                  <a:lnTo>
                    <a:pt x="1033" y="1"/>
                  </a:lnTo>
                  <a:lnTo>
                    <a:pt x="1015" y="0"/>
                  </a:lnTo>
                  <a:lnTo>
                    <a:pt x="996" y="0"/>
                  </a:lnTo>
                  <a:lnTo>
                    <a:pt x="977" y="2"/>
                  </a:lnTo>
                  <a:lnTo>
                    <a:pt x="956" y="5"/>
                  </a:lnTo>
                  <a:lnTo>
                    <a:pt x="934" y="10"/>
                  </a:lnTo>
                  <a:lnTo>
                    <a:pt x="912" y="18"/>
                  </a:lnTo>
                  <a:lnTo>
                    <a:pt x="889" y="27"/>
                  </a:lnTo>
                  <a:lnTo>
                    <a:pt x="865" y="36"/>
                  </a:lnTo>
                  <a:lnTo>
                    <a:pt x="841" y="49"/>
                  </a:lnTo>
                  <a:lnTo>
                    <a:pt x="816" y="61"/>
                  </a:lnTo>
                  <a:lnTo>
                    <a:pt x="791" y="76"/>
                  </a:lnTo>
                  <a:lnTo>
                    <a:pt x="765" y="93"/>
                  </a:lnTo>
                  <a:lnTo>
                    <a:pt x="739" y="110"/>
                  </a:lnTo>
                  <a:lnTo>
                    <a:pt x="713" y="129"/>
                  </a:lnTo>
                  <a:lnTo>
                    <a:pt x="686" y="149"/>
                  </a:lnTo>
                  <a:lnTo>
                    <a:pt x="659" y="171"/>
                  </a:lnTo>
                  <a:lnTo>
                    <a:pt x="631" y="194"/>
                  </a:lnTo>
                  <a:lnTo>
                    <a:pt x="604" y="218"/>
                  </a:lnTo>
                  <a:lnTo>
                    <a:pt x="575" y="244"/>
                  </a:lnTo>
                  <a:lnTo>
                    <a:pt x="547" y="270"/>
                  </a:lnTo>
                  <a:lnTo>
                    <a:pt x="519" y="298"/>
                  </a:lnTo>
                  <a:lnTo>
                    <a:pt x="491" y="327"/>
                  </a:lnTo>
                  <a:lnTo>
                    <a:pt x="464" y="356"/>
                  </a:lnTo>
                  <a:lnTo>
                    <a:pt x="436" y="388"/>
                  </a:lnTo>
                  <a:lnTo>
                    <a:pt x="381" y="453"/>
                  </a:lnTo>
                  <a:lnTo>
                    <a:pt x="326" y="522"/>
                  </a:lnTo>
                  <a:lnTo>
                    <a:pt x="274" y="593"/>
                  </a:lnTo>
                  <a:lnTo>
                    <a:pt x="227" y="664"/>
                  </a:lnTo>
                  <a:lnTo>
                    <a:pt x="204" y="700"/>
                  </a:lnTo>
                  <a:lnTo>
                    <a:pt x="184" y="735"/>
                  </a:lnTo>
                  <a:lnTo>
                    <a:pt x="163" y="769"/>
                  </a:lnTo>
                  <a:lnTo>
                    <a:pt x="144" y="805"/>
                  </a:lnTo>
                  <a:lnTo>
                    <a:pt x="126" y="838"/>
                  </a:lnTo>
                  <a:lnTo>
                    <a:pt x="110" y="873"/>
                  </a:lnTo>
                  <a:lnTo>
                    <a:pt x="93" y="906"/>
                  </a:lnTo>
                  <a:lnTo>
                    <a:pt x="78" y="938"/>
                  </a:lnTo>
                  <a:lnTo>
                    <a:pt x="66" y="971"/>
                  </a:lnTo>
                  <a:lnTo>
                    <a:pt x="53" y="1002"/>
                  </a:lnTo>
                  <a:lnTo>
                    <a:pt x="42" y="1033"/>
                  </a:lnTo>
                  <a:lnTo>
                    <a:pt x="32" y="1063"/>
                  </a:lnTo>
                  <a:lnTo>
                    <a:pt x="24" y="1093"/>
                  </a:lnTo>
                  <a:lnTo>
                    <a:pt x="17" y="1121"/>
                  </a:lnTo>
                  <a:lnTo>
                    <a:pt x="11" y="1148"/>
                  </a:lnTo>
                  <a:lnTo>
                    <a:pt x="5" y="1175"/>
                  </a:lnTo>
                  <a:lnTo>
                    <a:pt x="2" y="1200"/>
                  </a:lnTo>
                  <a:lnTo>
                    <a:pt x="0" y="1224"/>
                  </a:lnTo>
                  <a:lnTo>
                    <a:pt x="0" y="1248"/>
                  </a:lnTo>
                  <a:lnTo>
                    <a:pt x="0" y="1270"/>
                  </a:lnTo>
                  <a:lnTo>
                    <a:pt x="2" y="1291"/>
                  </a:lnTo>
                  <a:lnTo>
                    <a:pt x="5" y="1311"/>
                  </a:lnTo>
                  <a:lnTo>
                    <a:pt x="11" y="1328"/>
                  </a:lnTo>
                  <a:lnTo>
                    <a:pt x="17" y="1345"/>
                  </a:lnTo>
                  <a:lnTo>
                    <a:pt x="24" y="1361"/>
                  </a:lnTo>
                  <a:lnTo>
                    <a:pt x="34" y="1374"/>
                  </a:lnTo>
                  <a:lnTo>
                    <a:pt x="44" y="1387"/>
                  </a:lnTo>
                  <a:lnTo>
                    <a:pt x="56" y="1397"/>
                  </a:lnTo>
                  <a:lnTo>
                    <a:pt x="70" y="1405"/>
                  </a:lnTo>
                  <a:lnTo>
                    <a:pt x="85" y="1413"/>
                  </a:lnTo>
                  <a:lnTo>
                    <a:pt x="100" y="1418"/>
                  </a:lnTo>
                  <a:lnTo>
                    <a:pt x="118" y="1421"/>
                  </a:lnTo>
                  <a:lnTo>
                    <a:pt x="136" y="1423"/>
                  </a:lnTo>
                  <a:lnTo>
                    <a:pt x="154" y="1422"/>
                  </a:lnTo>
                  <a:lnTo>
                    <a:pt x="174" y="1420"/>
                  </a:lnTo>
                  <a:lnTo>
                    <a:pt x="195" y="1417"/>
                  </a:lnTo>
                  <a:lnTo>
                    <a:pt x="216" y="1412"/>
                  </a:lnTo>
                  <a:lnTo>
                    <a:pt x="239" y="1404"/>
                  </a:lnTo>
                  <a:lnTo>
                    <a:pt x="262" y="1396"/>
                  </a:lnTo>
                  <a:lnTo>
                    <a:pt x="285" y="1386"/>
                  </a:lnTo>
                  <a:lnTo>
                    <a:pt x="309" y="1374"/>
                  </a:lnTo>
                  <a:lnTo>
                    <a:pt x="334" y="1361"/>
                  </a:lnTo>
                  <a:lnTo>
                    <a:pt x="360" y="1346"/>
                  </a:lnTo>
                  <a:lnTo>
                    <a:pt x="385" y="1329"/>
                  </a:lnTo>
                  <a:lnTo>
                    <a:pt x="411" y="1312"/>
                  </a:lnTo>
                  <a:lnTo>
                    <a:pt x="438" y="1293"/>
                  </a:lnTo>
                  <a:lnTo>
                    <a:pt x="465" y="1273"/>
                  </a:lnTo>
                  <a:lnTo>
                    <a:pt x="492" y="1251"/>
                  </a:lnTo>
                  <a:lnTo>
                    <a:pt x="519" y="1228"/>
                  </a:lnTo>
                  <a:lnTo>
                    <a:pt x="547" y="1204"/>
                  </a:lnTo>
                  <a:lnTo>
                    <a:pt x="575" y="1178"/>
                  </a:lnTo>
                  <a:lnTo>
                    <a:pt x="604" y="1152"/>
                  </a:lnTo>
                  <a:lnTo>
                    <a:pt x="631" y="1124"/>
                  </a:lnTo>
                  <a:lnTo>
                    <a:pt x="659" y="1095"/>
                  </a:lnTo>
                  <a:lnTo>
                    <a:pt x="687" y="1066"/>
                  </a:lnTo>
                  <a:lnTo>
                    <a:pt x="715" y="1034"/>
                  </a:lnTo>
                  <a:lnTo>
                    <a:pt x="770" y="969"/>
                  </a:lnTo>
                  <a:lnTo>
                    <a:pt x="825" y="900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4040" y="4154400"/>
              <a:ext cx="1218960" cy="605880"/>
            </a:xfrm>
            <a:custGeom>
              <a:avLst/>
              <a:gdLst/>
              <a:ahLst/>
              <a:rect l="l" t="t" r="r" b="b"/>
              <a:pathLst>
                <a:path w="1662" h="765">
                  <a:moveTo>
                    <a:pt x="916" y="82"/>
                  </a:moveTo>
                  <a:lnTo>
                    <a:pt x="831" y="59"/>
                  </a:lnTo>
                  <a:lnTo>
                    <a:pt x="748" y="40"/>
                  </a:lnTo>
                  <a:lnTo>
                    <a:pt x="666" y="25"/>
                  </a:lnTo>
                  <a:lnTo>
                    <a:pt x="588" y="14"/>
                  </a:lnTo>
                  <a:lnTo>
                    <a:pt x="512" y="6"/>
                  </a:lnTo>
                  <a:lnTo>
                    <a:pt x="440" y="1"/>
                  </a:lnTo>
                  <a:lnTo>
                    <a:pt x="404" y="0"/>
                  </a:lnTo>
                  <a:lnTo>
                    <a:pt x="371" y="0"/>
                  </a:lnTo>
                  <a:lnTo>
                    <a:pt x="337" y="1"/>
                  </a:lnTo>
                  <a:lnTo>
                    <a:pt x="306" y="4"/>
                  </a:lnTo>
                  <a:lnTo>
                    <a:pt x="276" y="7"/>
                  </a:lnTo>
                  <a:lnTo>
                    <a:pt x="247" y="10"/>
                  </a:lnTo>
                  <a:lnTo>
                    <a:pt x="219" y="14"/>
                  </a:lnTo>
                  <a:lnTo>
                    <a:pt x="193" y="19"/>
                  </a:lnTo>
                  <a:lnTo>
                    <a:pt x="168" y="25"/>
                  </a:lnTo>
                  <a:lnTo>
                    <a:pt x="145" y="33"/>
                  </a:lnTo>
                  <a:lnTo>
                    <a:pt x="123" y="40"/>
                  </a:lnTo>
                  <a:lnTo>
                    <a:pt x="102" y="49"/>
                  </a:lnTo>
                  <a:lnTo>
                    <a:pt x="83" y="59"/>
                  </a:lnTo>
                  <a:lnTo>
                    <a:pt x="67" y="68"/>
                  </a:lnTo>
                  <a:lnTo>
                    <a:pt x="51" y="80"/>
                  </a:lnTo>
                  <a:lnTo>
                    <a:pt x="38" y="92"/>
                  </a:lnTo>
                  <a:lnTo>
                    <a:pt x="27" y="105"/>
                  </a:lnTo>
                  <a:lnTo>
                    <a:pt x="17" y="118"/>
                  </a:lnTo>
                  <a:lnTo>
                    <a:pt x="9" y="133"/>
                  </a:lnTo>
                  <a:lnTo>
                    <a:pt x="4" y="147"/>
                  </a:lnTo>
                  <a:lnTo>
                    <a:pt x="1" y="163"/>
                  </a:lnTo>
                  <a:lnTo>
                    <a:pt x="0" y="180"/>
                  </a:lnTo>
                  <a:lnTo>
                    <a:pt x="1" y="195"/>
                  </a:lnTo>
                  <a:lnTo>
                    <a:pt x="3" y="213"/>
                  </a:lnTo>
                  <a:lnTo>
                    <a:pt x="8" y="230"/>
                  </a:lnTo>
                  <a:lnTo>
                    <a:pt x="15" y="248"/>
                  </a:lnTo>
                  <a:lnTo>
                    <a:pt x="25" y="265"/>
                  </a:lnTo>
                  <a:lnTo>
                    <a:pt x="35" y="283"/>
                  </a:lnTo>
                  <a:lnTo>
                    <a:pt x="48" y="301"/>
                  </a:lnTo>
                  <a:lnTo>
                    <a:pt x="62" y="319"/>
                  </a:lnTo>
                  <a:lnTo>
                    <a:pt x="79" y="337"/>
                  </a:lnTo>
                  <a:lnTo>
                    <a:pt x="97" y="356"/>
                  </a:lnTo>
                  <a:lnTo>
                    <a:pt x="117" y="374"/>
                  </a:lnTo>
                  <a:lnTo>
                    <a:pt x="138" y="392"/>
                  </a:lnTo>
                  <a:lnTo>
                    <a:pt x="161" y="410"/>
                  </a:lnTo>
                  <a:lnTo>
                    <a:pt x="185" y="429"/>
                  </a:lnTo>
                  <a:lnTo>
                    <a:pt x="211" y="447"/>
                  </a:lnTo>
                  <a:lnTo>
                    <a:pt x="238" y="464"/>
                  </a:lnTo>
                  <a:lnTo>
                    <a:pt x="268" y="483"/>
                  </a:lnTo>
                  <a:lnTo>
                    <a:pt x="297" y="500"/>
                  </a:lnTo>
                  <a:lnTo>
                    <a:pt x="329" y="518"/>
                  </a:lnTo>
                  <a:lnTo>
                    <a:pt x="361" y="534"/>
                  </a:lnTo>
                  <a:lnTo>
                    <a:pt x="395" y="552"/>
                  </a:lnTo>
                  <a:lnTo>
                    <a:pt x="430" y="568"/>
                  </a:lnTo>
                  <a:lnTo>
                    <a:pt x="466" y="584"/>
                  </a:lnTo>
                  <a:lnTo>
                    <a:pt x="503" y="600"/>
                  </a:lnTo>
                  <a:lnTo>
                    <a:pt x="580" y="630"/>
                  </a:lnTo>
                  <a:lnTo>
                    <a:pt x="661" y="657"/>
                  </a:lnTo>
                  <a:lnTo>
                    <a:pt x="745" y="683"/>
                  </a:lnTo>
                  <a:lnTo>
                    <a:pt x="830" y="706"/>
                  </a:lnTo>
                  <a:lnTo>
                    <a:pt x="914" y="725"/>
                  </a:lnTo>
                  <a:lnTo>
                    <a:pt x="995" y="740"/>
                  </a:lnTo>
                  <a:lnTo>
                    <a:pt x="1074" y="751"/>
                  </a:lnTo>
                  <a:lnTo>
                    <a:pt x="1150" y="759"/>
                  </a:lnTo>
                  <a:lnTo>
                    <a:pt x="1222" y="764"/>
                  </a:lnTo>
                  <a:lnTo>
                    <a:pt x="1258" y="765"/>
                  </a:lnTo>
                  <a:lnTo>
                    <a:pt x="1291" y="765"/>
                  </a:lnTo>
                  <a:lnTo>
                    <a:pt x="1323" y="764"/>
                  </a:lnTo>
                  <a:lnTo>
                    <a:pt x="1356" y="762"/>
                  </a:lnTo>
                  <a:lnTo>
                    <a:pt x="1386" y="758"/>
                  </a:lnTo>
                  <a:lnTo>
                    <a:pt x="1415" y="755"/>
                  </a:lnTo>
                  <a:lnTo>
                    <a:pt x="1442" y="751"/>
                  </a:lnTo>
                  <a:lnTo>
                    <a:pt x="1469" y="746"/>
                  </a:lnTo>
                  <a:lnTo>
                    <a:pt x="1494" y="740"/>
                  </a:lnTo>
                  <a:lnTo>
                    <a:pt x="1517" y="732"/>
                  </a:lnTo>
                  <a:lnTo>
                    <a:pt x="1539" y="725"/>
                  </a:lnTo>
                  <a:lnTo>
                    <a:pt x="1560" y="717"/>
                  </a:lnTo>
                  <a:lnTo>
                    <a:pt x="1579" y="706"/>
                  </a:lnTo>
                  <a:lnTo>
                    <a:pt x="1595" y="697"/>
                  </a:lnTo>
                  <a:lnTo>
                    <a:pt x="1611" y="685"/>
                  </a:lnTo>
                  <a:lnTo>
                    <a:pt x="1624" y="674"/>
                  </a:lnTo>
                  <a:lnTo>
                    <a:pt x="1635" y="660"/>
                  </a:lnTo>
                  <a:lnTo>
                    <a:pt x="1645" y="647"/>
                  </a:lnTo>
                  <a:lnTo>
                    <a:pt x="1653" y="633"/>
                  </a:lnTo>
                  <a:lnTo>
                    <a:pt x="1658" y="618"/>
                  </a:lnTo>
                  <a:lnTo>
                    <a:pt x="1661" y="602"/>
                  </a:lnTo>
                  <a:lnTo>
                    <a:pt x="1662" y="585"/>
                  </a:lnTo>
                  <a:lnTo>
                    <a:pt x="1661" y="569"/>
                  </a:lnTo>
                  <a:lnTo>
                    <a:pt x="1658" y="552"/>
                  </a:lnTo>
                  <a:lnTo>
                    <a:pt x="1653" y="535"/>
                  </a:lnTo>
                  <a:lnTo>
                    <a:pt x="1646" y="518"/>
                  </a:lnTo>
                  <a:lnTo>
                    <a:pt x="1637" y="500"/>
                  </a:lnTo>
                  <a:lnTo>
                    <a:pt x="1627" y="482"/>
                  </a:lnTo>
                  <a:lnTo>
                    <a:pt x="1613" y="463"/>
                  </a:lnTo>
                  <a:lnTo>
                    <a:pt x="1599" y="446"/>
                  </a:lnTo>
                  <a:lnTo>
                    <a:pt x="1583" y="427"/>
                  </a:lnTo>
                  <a:lnTo>
                    <a:pt x="1564" y="409"/>
                  </a:lnTo>
                  <a:lnTo>
                    <a:pt x="1544" y="390"/>
                  </a:lnTo>
                  <a:lnTo>
                    <a:pt x="1523" y="373"/>
                  </a:lnTo>
                  <a:lnTo>
                    <a:pt x="1501" y="354"/>
                  </a:lnTo>
                  <a:lnTo>
                    <a:pt x="1477" y="336"/>
                  </a:lnTo>
                  <a:lnTo>
                    <a:pt x="1451" y="317"/>
                  </a:lnTo>
                  <a:lnTo>
                    <a:pt x="1422" y="300"/>
                  </a:lnTo>
                  <a:lnTo>
                    <a:pt x="1394" y="282"/>
                  </a:lnTo>
                  <a:lnTo>
                    <a:pt x="1364" y="264"/>
                  </a:lnTo>
                  <a:lnTo>
                    <a:pt x="1333" y="246"/>
                  </a:lnTo>
                  <a:lnTo>
                    <a:pt x="1300" y="230"/>
                  </a:lnTo>
                  <a:lnTo>
                    <a:pt x="1266" y="213"/>
                  </a:lnTo>
                  <a:lnTo>
                    <a:pt x="1232" y="196"/>
                  </a:lnTo>
                  <a:lnTo>
                    <a:pt x="1195" y="181"/>
                  </a:lnTo>
                  <a:lnTo>
                    <a:pt x="1159" y="165"/>
                  </a:lnTo>
                  <a:lnTo>
                    <a:pt x="1082" y="135"/>
                  </a:lnTo>
                  <a:lnTo>
                    <a:pt x="1000" y="107"/>
                  </a:lnTo>
                  <a:lnTo>
                    <a:pt x="916" y="82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71040" y="4468680"/>
              <a:ext cx="46800" cy="5040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18" y="61"/>
                  </a:moveTo>
                  <a:lnTo>
                    <a:pt x="13" y="58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2" y="7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5" y="23"/>
                  </a:lnTo>
                  <a:lnTo>
                    <a:pt x="66" y="29"/>
                  </a:lnTo>
                  <a:lnTo>
                    <a:pt x="66" y="35"/>
                  </a:lnTo>
                  <a:lnTo>
                    <a:pt x="65" y="41"/>
                  </a:lnTo>
                  <a:lnTo>
                    <a:pt x="63" y="48"/>
                  </a:lnTo>
                  <a:lnTo>
                    <a:pt x="59" y="53"/>
                  </a:lnTo>
                  <a:lnTo>
                    <a:pt x="54" y="58"/>
                  </a:lnTo>
                  <a:lnTo>
                    <a:pt x="49" y="61"/>
                  </a:lnTo>
                  <a:lnTo>
                    <a:pt x="43" y="63"/>
                  </a:lnTo>
                  <a:lnTo>
                    <a:pt x="37" y="64"/>
                  </a:lnTo>
                  <a:lnTo>
                    <a:pt x="30" y="64"/>
                  </a:lnTo>
                  <a:lnTo>
                    <a:pt x="24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3280" y="3795840"/>
              <a:ext cx="559440" cy="1318680"/>
            </a:xfrm>
            <a:custGeom>
              <a:avLst/>
              <a:gdLst/>
              <a:ahLst/>
              <a:rect l="l" t="t" r="r" b="b"/>
              <a:pathLst>
                <a:path w="764" h="1663">
                  <a:moveTo>
                    <a:pt x="81" y="917"/>
                  </a:moveTo>
                  <a:lnTo>
                    <a:pt x="58" y="832"/>
                  </a:lnTo>
                  <a:lnTo>
                    <a:pt x="39" y="749"/>
                  </a:lnTo>
                  <a:lnTo>
                    <a:pt x="25" y="667"/>
                  </a:lnTo>
                  <a:lnTo>
                    <a:pt x="13" y="588"/>
                  </a:lnTo>
                  <a:lnTo>
                    <a:pt x="5" y="512"/>
                  </a:lnTo>
                  <a:lnTo>
                    <a:pt x="1" y="440"/>
                  </a:lnTo>
                  <a:lnTo>
                    <a:pt x="0" y="404"/>
                  </a:lnTo>
                  <a:lnTo>
                    <a:pt x="0" y="371"/>
                  </a:lnTo>
                  <a:lnTo>
                    <a:pt x="1" y="339"/>
                  </a:lnTo>
                  <a:lnTo>
                    <a:pt x="3" y="306"/>
                  </a:lnTo>
                  <a:lnTo>
                    <a:pt x="5" y="276"/>
                  </a:lnTo>
                  <a:lnTo>
                    <a:pt x="9" y="247"/>
                  </a:lnTo>
                  <a:lnTo>
                    <a:pt x="13" y="220"/>
                  </a:lnTo>
                  <a:lnTo>
                    <a:pt x="19" y="193"/>
                  </a:lnTo>
                  <a:lnTo>
                    <a:pt x="25" y="168"/>
                  </a:lnTo>
                  <a:lnTo>
                    <a:pt x="31" y="145"/>
                  </a:lnTo>
                  <a:lnTo>
                    <a:pt x="39" y="123"/>
                  </a:lnTo>
                  <a:lnTo>
                    <a:pt x="48" y="102"/>
                  </a:lnTo>
                  <a:lnTo>
                    <a:pt x="57" y="83"/>
                  </a:lnTo>
                  <a:lnTo>
                    <a:pt x="68" y="67"/>
                  </a:lnTo>
                  <a:lnTo>
                    <a:pt x="79" y="51"/>
                  </a:lnTo>
                  <a:lnTo>
                    <a:pt x="91" y="38"/>
                  </a:lnTo>
                  <a:lnTo>
                    <a:pt x="104" y="27"/>
                  </a:lnTo>
                  <a:lnTo>
                    <a:pt x="118" y="17"/>
                  </a:lnTo>
                  <a:lnTo>
                    <a:pt x="131" y="9"/>
                  </a:lnTo>
                  <a:lnTo>
                    <a:pt x="147" y="4"/>
                  </a:lnTo>
                  <a:lnTo>
                    <a:pt x="162" y="1"/>
                  </a:lnTo>
                  <a:lnTo>
                    <a:pt x="179" y="0"/>
                  </a:lnTo>
                  <a:lnTo>
                    <a:pt x="195" y="1"/>
                  </a:lnTo>
                  <a:lnTo>
                    <a:pt x="212" y="4"/>
                  </a:lnTo>
                  <a:lnTo>
                    <a:pt x="229" y="9"/>
                  </a:lnTo>
                  <a:lnTo>
                    <a:pt x="247" y="15"/>
                  </a:lnTo>
                  <a:lnTo>
                    <a:pt x="265" y="25"/>
                  </a:lnTo>
                  <a:lnTo>
                    <a:pt x="282" y="36"/>
                  </a:lnTo>
                  <a:lnTo>
                    <a:pt x="300" y="49"/>
                  </a:lnTo>
                  <a:lnTo>
                    <a:pt x="319" y="63"/>
                  </a:lnTo>
                  <a:lnTo>
                    <a:pt x="336" y="79"/>
                  </a:lnTo>
                  <a:lnTo>
                    <a:pt x="355" y="98"/>
                  </a:lnTo>
                  <a:lnTo>
                    <a:pt x="373" y="118"/>
                  </a:lnTo>
                  <a:lnTo>
                    <a:pt x="392" y="139"/>
                  </a:lnTo>
                  <a:lnTo>
                    <a:pt x="409" y="161"/>
                  </a:lnTo>
                  <a:lnTo>
                    <a:pt x="428" y="185"/>
                  </a:lnTo>
                  <a:lnTo>
                    <a:pt x="446" y="212"/>
                  </a:lnTo>
                  <a:lnTo>
                    <a:pt x="464" y="239"/>
                  </a:lnTo>
                  <a:lnTo>
                    <a:pt x="482" y="268"/>
                  </a:lnTo>
                  <a:lnTo>
                    <a:pt x="499" y="298"/>
                  </a:lnTo>
                  <a:lnTo>
                    <a:pt x="517" y="329"/>
                  </a:lnTo>
                  <a:lnTo>
                    <a:pt x="533" y="362"/>
                  </a:lnTo>
                  <a:lnTo>
                    <a:pt x="551" y="395"/>
                  </a:lnTo>
                  <a:lnTo>
                    <a:pt x="567" y="430"/>
                  </a:lnTo>
                  <a:lnTo>
                    <a:pt x="583" y="466"/>
                  </a:lnTo>
                  <a:lnTo>
                    <a:pt x="599" y="503"/>
                  </a:lnTo>
                  <a:lnTo>
                    <a:pt x="629" y="581"/>
                  </a:lnTo>
                  <a:lnTo>
                    <a:pt x="656" y="661"/>
                  </a:lnTo>
                  <a:lnTo>
                    <a:pt x="682" y="745"/>
                  </a:lnTo>
                  <a:lnTo>
                    <a:pt x="705" y="831"/>
                  </a:lnTo>
                  <a:lnTo>
                    <a:pt x="724" y="914"/>
                  </a:lnTo>
                  <a:lnTo>
                    <a:pt x="739" y="996"/>
                  </a:lnTo>
                  <a:lnTo>
                    <a:pt x="750" y="1075"/>
                  </a:lnTo>
                  <a:lnTo>
                    <a:pt x="759" y="1151"/>
                  </a:lnTo>
                  <a:lnTo>
                    <a:pt x="763" y="1223"/>
                  </a:lnTo>
                  <a:lnTo>
                    <a:pt x="764" y="1258"/>
                  </a:lnTo>
                  <a:lnTo>
                    <a:pt x="764" y="1292"/>
                  </a:lnTo>
                  <a:lnTo>
                    <a:pt x="763" y="1324"/>
                  </a:lnTo>
                  <a:lnTo>
                    <a:pt x="762" y="1356"/>
                  </a:lnTo>
                  <a:lnTo>
                    <a:pt x="759" y="1387"/>
                  </a:lnTo>
                  <a:lnTo>
                    <a:pt x="755" y="1416"/>
                  </a:lnTo>
                  <a:lnTo>
                    <a:pt x="750" y="1443"/>
                  </a:lnTo>
                  <a:lnTo>
                    <a:pt x="745" y="1470"/>
                  </a:lnTo>
                  <a:lnTo>
                    <a:pt x="740" y="1495"/>
                  </a:lnTo>
                  <a:lnTo>
                    <a:pt x="733" y="1518"/>
                  </a:lnTo>
                  <a:lnTo>
                    <a:pt x="725" y="1540"/>
                  </a:lnTo>
                  <a:lnTo>
                    <a:pt x="716" y="1561"/>
                  </a:lnTo>
                  <a:lnTo>
                    <a:pt x="706" y="1580"/>
                  </a:lnTo>
                  <a:lnTo>
                    <a:pt x="697" y="1596"/>
                  </a:lnTo>
                  <a:lnTo>
                    <a:pt x="686" y="1612"/>
                  </a:lnTo>
                  <a:lnTo>
                    <a:pt x="673" y="1624"/>
                  </a:lnTo>
                  <a:lnTo>
                    <a:pt x="661" y="1636"/>
                  </a:lnTo>
                  <a:lnTo>
                    <a:pt x="647" y="1646"/>
                  </a:lnTo>
                  <a:lnTo>
                    <a:pt x="633" y="1654"/>
                  </a:lnTo>
                  <a:lnTo>
                    <a:pt x="618" y="1659"/>
                  </a:lnTo>
                  <a:lnTo>
                    <a:pt x="602" y="1662"/>
                  </a:lnTo>
                  <a:lnTo>
                    <a:pt x="586" y="1663"/>
                  </a:lnTo>
                  <a:lnTo>
                    <a:pt x="569" y="1662"/>
                  </a:lnTo>
                  <a:lnTo>
                    <a:pt x="552" y="1659"/>
                  </a:lnTo>
                  <a:lnTo>
                    <a:pt x="536" y="1654"/>
                  </a:lnTo>
                  <a:lnTo>
                    <a:pt x="518" y="1647"/>
                  </a:lnTo>
                  <a:lnTo>
                    <a:pt x="500" y="1638"/>
                  </a:lnTo>
                  <a:lnTo>
                    <a:pt x="482" y="1628"/>
                  </a:lnTo>
                  <a:lnTo>
                    <a:pt x="464" y="1614"/>
                  </a:lnTo>
                  <a:lnTo>
                    <a:pt x="446" y="1599"/>
                  </a:lnTo>
                  <a:lnTo>
                    <a:pt x="427" y="1584"/>
                  </a:lnTo>
                  <a:lnTo>
                    <a:pt x="409" y="1565"/>
                  </a:lnTo>
                  <a:lnTo>
                    <a:pt x="391" y="1545"/>
                  </a:lnTo>
                  <a:lnTo>
                    <a:pt x="372" y="1524"/>
                  </a:lnTo>
                  <a:lnTo>
                    <a:pt x="354" y="1501"/>
                  </a:lnTo>
                  <a:lnTo>
                    <a:pt x="335" y="1477"/>
                  </a:lnTo>
                  <a:lnTo>
                    <a:pt x="318" y="1451"/>
                  </a:lnTo>
                  <a:lnTo>
                    <a:pt x="300" y="1424"/>
                  </a:lnTo>
                  <a:lnTo>
                    <a:pt x="282" y="1395"/>
                  </a:lnTo>
                  <a:lnTo>
                    <a:pt x="265" y="1365"/>
                  </a:lnTo>
                  <a:lnTo>
                    <a:pt x="247" y="1333"/>
                  </a:lnTo>
                  <a:lnTo>
                    <a:pt x="230" y="1301"/>
                  </a:lnTo>
                  <a:lnTo>
                    <a:pt x="214" y="1268"/>
                  </a:lnTo>
                  <a:lnTo>
                    <a:pt x="197" y="1232"/>
                  </a:lnTo>
                  <a:lnTo>
                    <a:pt x="180" y="1197"/>
                  </a:lnTo>
                  <a:lnTo>
                    <a:pt x="165" y="1159"/>
                  </a:lnTo>
                  <a:lnTo>
                    <a:pt x="134" y="1082"/>
                  </a:lnTo>
                  <a:lnTo>
                    <a:pt x="107" y="1002"/>
                  </a:lnTo>
                  <a:lnTo>
                    <a:pt x="81" y="917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202800" y="5046480"/>
              <a:ext cx="109800" cy="118800"/>
              <a:chOff x="6202800" y="5046480"/>
              <a:chExt cx="109800" cy="118800"/>
            </a:xfrm>
          </p:grpSpPr>
          <p:sp>
            <p:nvSpPr>
              <p:cNvPr id="226" name=""/>
              <p:cNvSpPr/>
              <p:nvPr/>
            </p:nvSpPr>
            <p:spPr>
              <a:xfrm>
                <a:off x="6202800" y="5046480"/>
                <a:ext cx="109800" cy="11880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110" y="9"/>
                    </a:move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3" y="4"/>
                    </a:lnTo>
                    <a:lnTo>
                      <a:pt x="39" y="9"/>
                    </a:lnTo>
                    <a:lnTo>
                      <a:pt x="28" y="17"/>
                    </a:lnTo>
                    <a:lnTo>
                      <a:pt x="17" y="29"/>
                    </a:lnTo>
                    <a:lnTo>
                      <a:pt x="9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84"/>
                    </a:lnTo>
                    <a:lnTo>
                      <a:pt x="4" y="98"/>
                    </a:lnTo>
                    <a:lnTo>
                      <a:pt x="9" y="111"/>
                    </a:lnTo>
                    <a:lnTo>
                      <a:pt x="17" y="123"/>
                    </a:lnTo>
                    <a:lnTo>
                      <a:pt x="28" y="134"/>
                    </a:lnTo>
                    <a:lnTo>
                      <a:pt x="40" y="142"/>
                    </a:lnTo>
                    <a:lnTo>
                      <a:pt x="55" y="147"/>
                    </a:lnTo>
                    <a:lnTo>
                      <a:pt x="69" y="151"/>
                    </a:lnTo>
                    <a:lnTo>
                      <a:pt x="84" y="150"/>
                    </a:lnTo>
                    <a:lnTo>
                      <a:pt x="97" y="146"/>
                    </a:lnTo>
                    <a:lnTo>
                      <a:pt x="111" y="141"/>
                    </a:lnTo>
                    <a:lnTo>
                      <a:pt x="122" y="133"/>
                    </a:lnTo>
                    <a:lnTo>
                      <a:pt x="133" y="122"/>
                    </a:lnTo>
                    <a:lnTo>
                      <a:pt x="141" y="110"/>
                    </a:lnTo>
                    <a:lnTo>
                      <a:pt x="147" y="96"/>
                    </a:lnTo>
                    <a:lnTo>
                      <a:pt x="149" y="82"/>
                    </a:lnTo>
                    <a:lnTo>
                      <a:pt x="149" y="67"/>
                    </a:lnTo>
                    <a:lnTo>
                      <a:pt x="146" y="53"/>
                    </a:lnTo>
                    <a:lnTo>
                      <a:pt x="141" y="39"/>
                    </a:lnTo>
                    <a:lnTo>
                      <a:pt x="133" y="28"/>
                    </a:lnTo>
                    <a:lnTo>
                      <a:pt x="122" y="17"/>
                    </a:lnTo>
                    <a:lnTo>
                      <a:pt x="110" y="9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25840" y="5085720"/>
                <a:ext cx="63000" cy="41040"/>
              </a:xfrm>
              <a:custGeom>
                <a:avLst/>
                <a:gdLst/>
                <a:ahLst/>
                <a:rect l="l" t="t" r="r" b="b"/>
                <a:pathLst>
                  <a:path w="86" h="53">
                    <a:moveTo>
                      <a:pt x="6" y="0"/>
                    </a:moveTo>
                    <a:lnTo>
                      <a:pt x="0" y="11"/>
                    </a:lnTo>
                    <a:lnTo>
                      <a:pt x="80" y="53"/>
                    </a:lnTo>
                    <a:lnTo>
                      <a:pt x="86" y="4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6915240" y="5416560"/>
            <a:ext cx="1304640" cy="1181160"/>
            <a:chOff x="6915240" y="5416560"/>
            <a:chExt cx="1304640" cy="1181160"/>
          </a:xfrm>
        </p:grpSpPr>
        <p:sp>
          <p:nvSpPr>
            <p:cNvPr id="229" name=""/>
            <p:cNvSpPr/>
            <p:nvPr/>
          </p:nvSpPr>
          <p:spPr>
            <a:xfrm>
              <a:off x="7190640" y="5416560"/>
              <a:ext cx="783000" cy="1181160"/>
            </a:xfrm>
            <a:custGeom>
              <a:avLst/>
              <a:gdLst/>
              <a:ahLst/>
              <a:rect l="l" t="t" r="r" b="b"/>
              <a:pathLst>
                <a:path w="1068" h="1487">
                  <a:moveTo>
                    <a:pt x="271" y="913"/>
                  </a:moveTo>
                  <a:lnTo>
                    <a:pt x="320" y="986"/>
                  </a:lnTo>
                  <a:lnTo>
                    <a:pt x="370" y="1056"/>
                  </a:lnTo>
                  <a:lnTo>
                    <a:pt x="396" y="1089"/>
                  </a:lnTo>
                  <a:lnTo>
                    <a:pt x="421" y="1120"/>
                  </a:lnTo>
                  <a:lnTo>
                    <a:pt x="447" y="1152"/>
                  </a:lnTo>
                  <a:lnTo>
                    <a:pt x="473" y="1182"/>
                  </a:lnTo>
                  <a:lnTo>
                    <a:pt x="499" y="1210"/>
                  </a:lnTo>
                  <a:lnTo>
                    <a:pt x="524" y="1238"/>
                  </a:lnTo>
                  <a:lnTo>
                    <a:pt x="550" y="1264"/>
                  </a:lnTo>
                  <a:lnTo>
                    <a:pt x="576" y="1289"/>
                  </a:lnTo>
                  <a:lnTo>
                    <a:pt x="601" y="1313"/>
                  </a:lnTo>
                  <a:lnTo>
                    <a:pt x="627" y="1335"/>
                  </a:lnTo>
                  <a:lnTo>
                    <a:pt x="652" y="1356"/>
                  </a:lnTo>
                  <a:lnTo>
                    <a:pt x="677" y="1376"/>
                  </a:lnTo>
                  <a:lnTo>
                    <a:pt x="701" y="1393"/>
                  </a:lnTo>
                  <a:lnTo>
                    <a:pt x="725" y="1410"/>
                  </a:lnTo>
                  <a:lnTo>
                    <a:pt x="749" y="1426"/>
                  </a:lnTo>
                  <a:lnTo>
                    <a:pt x="772" y="1439"/>
                  </a:lnTo>
                  <a:lnTo>
                    <a:pt x="795" y="1451"/>
                  </a:lnTo>
                  <a:lnTo>
                    <a:pt x="818" y="1461"/>
                  </a:lnTo>
                  <a:lnTo>
                    <a:pt x="839" y="1470"/>
                  </a:lnTo>
                  <a:lnTo>
                    <a:pt x="860" y="1477"/>
                  </a:lnTo>
                  <a:lnTo>
                    <a:pt x="881" y="1482"/>
                  </a:lnTo>
                  <a:lnTo>
                    <a:pt x="900" y="1485"/>
                  </a:lnTo>
                  <a:lnTo>
                    <a:pt x="919" y="1487"/>
                  </a:lnTo>
                  <a:lnTo>
                    <a:pt x="937" y="1487"/>
                  </a:lnTo>
                  <a:lnTo>
                    <a:pt x="953" y="1485"/>
                  </a:lnTo>
                  <a:lnTo>
                    <a:pt x="970" y="1481"/>
                  </a:lnTo>
                  <a:lnTo>
                    <a:pt x="985" y="1476"/>
                  </a:lnTo>
                  <a:lnTo>
                    <a:pt x="999" y="1468"/>
                  </a:lnTo>
                  <a:lnTo>
                    <a:pt x="1012" y="1458"/>
                  </a:lnTo>
                  <a:lnTo>
                    <a:pt x="1023" y="1447"/>
                  </a:lnTo>
                  <a:lnTo>
                    <a:pt x="1034" y="1433"/>
                  </a:lnTo>
                  <a:lnTo>
                    <a:pt x="1043" y="1419"/>
                  </a:lnTo>
                  <a:lnTo>
                    <a:pt x="1050" y="1403"/>
                  </a:lnTo>
                  <a:lnTo>
                    <a:pt x="1057" y="1384"/>
                  </a:lnTo>
                  <a:lnTo>
                    <a:pt x="1062" y="1365"/>
                  </a:lnTo>
                  <a:lnTo>
                    <a:pt x="1065" y="1344"/>
                  </a:lnTo>
                  <a:lnTo>
                    <a:pt x="1067" y="1323"/>
                  </a:lnTo>
                  <a:lnTo>
                    <a:pt x="1068" y="1300"/>
                  </a:lnTo>
                  <a:lnTo>
                    <a:pt x="1068" y="1275"/>
                  </a:lnTo>
                  <a:lnTo>
                    <a:pt x="1067" y="1250"/>
                  </a:lnTo>
                  <a:lnTo>
                    <a:pt x="1064" y="1222"/>
                  </a:lnTo>
                  <a:lnTo>
                    <a:pt x="1060" y="1194"/>
                  </a:lnTo>
                  <a:lnTo>
                    <a:pt x="1055" y="1166"/>
                  </a:lnTo>
                  <a:lnTo>
                    <a:pt x="1048" y="1136"/>
                  </a:lnTo>
                  <a:lnTo>
                    <a:pt x="1041" y="1105"/>
                  </a:lnTo>
                  <a:lnTo>
                    <a:pt x="1033" y="1073"/>
                  </a:lnTo>
                  <a:lnTo>
                    <a:pt x="1023" y="1041"/>
                  </a:lnTo>
                  <a:lnTo>
                    <a:pt x="1012" y="1008"/>
                  </a:lnTo>
                  <a:lnTo>
                    <a:pt x="1000" y="974"/>
                  </a:lnTo>
                  <a:lnTo>
                    <a:pt x="987" y="940"/>
                  </a:lnTo>
                  <a:lnTo>
                    <a:pt x="972" y="906"/>
                  </a:lnTo>
                  <a:lnTo>
                    <a:pt x="958" y="870"/>
                  </a:lnTo>
                  <a:lnTo>
                    <a:pt x="941" y="834"/>
                  </a:lnTo>
                  <a:lnTo>
                    <a:pt x="923" y="798"/>
                  </a:lnTo>
                  <a:lnTo>
                    <a:pt x="904" y="761"/>
                  </a:lnTo>
                  <a:lnTo>
                    <a:pt x="886" y="724"/>
                  </a:lnTo>
                  <a:lnTo>
                    <a:pt x="843" y="650"/>
                  </a:lnTo>
                  <a:lnTo>
                    <a:pt x="797" y="575"/>
                  </a:lnTo>
                  <a:lnTo>
                    <a:pt x="748" y="502"/>
                  </a:lnTo>
                  <a:lnTo>
                    <a:pt x="698" y="432"/>
                  </a:lnTo>
                  <a:lnTo>
                    <a:pt x="673" y="399"/>
                  </a:lnTo>
                  <a:lnTo>
                    <a:pt x="647" y="367"/>
                  </a:lnTo>
                  <a:lnTo>
                    <a:pt x="621" y="336"/>
                  </a:lnTo>
                  <a:lnTo>
                    <a:pt x="596" y="306"/>
                  </a:lnTo>
                  <a:lnTo>
                    <a:pt x="570" y="278"/>
                  </a:lnTo>
                  <a:lnTo>
                    <a:pt x="544" y="250"/>
                  </a:lnTo>
                  <a:lnTo>
                    <a:pt x="518" y="224"/>
                  </a:lnTo>
                  <a:lnTo>
                    <a:pt x="493" y="199"/>
                  </a:lnTo>
                  <a:lnTo>
                    <a:pt x="467" y="176"/>
                  </a:lnTo>
                  <a:lnTo>
                    <a:pt x="442" y="153"/>
                  </a:lnTo>
                  <a:lnTo>
                    <a:pt x="417" y="132"/>
                  </a:lnTo>
                  <a:lnTo>
                    <a:pt x="392" y="112"/>
                  </a:lnTo>
                  <a:lnTo>
                    <a:pt x="367" y="94"/>
                  </a:lnTo>
                  <a:lnTo>
                    <a:pt x="343" y="78"/>
                  </a:lnTo>
                  <a:lnTo>
                    <a:pt x="319" y="63"/>
                  </a:lnTo>
                  <a:lnTo>
                    <a:pt x="296" y="49"/>
                  </a:lnTo>
                  <a:lnTo>
                    <a:pt x="273" y="37"/>
                  </a:lnTo>
                  <a:lnTo>
                    <a:pt x="251" y="26"/>
                  </a:lnTo>
                  <a:lnTo>
                    <a:pt x="229" y="18"/>
                  </a:lnTo>
                  <a:lnTo>
                    <a:pt x="208" y="11"/>
                  </a:lnTo>
                  <a:lnTo>
                    <a:pt x="189" y="6"/>
                  </a:lnTo>
                  <a:lnTo>
                    <a:pt x="169" y="3"/>
                  </a:lnTo>
                  <a:lnTo>
                    <a:pt x="150" y="0"/>
                  </a:lnTo>
                  <a:lnTo>
                    <a:pt x="132" y="0"/>
                  </a:lnTo>
                  <a:lnTo>
                    <a:pt x="116" y="3"/>
                  </a:lnTo>
                  <a:lnTo>
                    <a:pt x="99" y="7"/>
                  </a:lnTo>
                  <a:lnTo>
                    <a:pt x="84" y="13"/>
                  </a:lnTo>
                  <a:lnTo>
                    <a:pt x="70" y="20"/>
                  </a:lnTo>
                  <a:lnTo>
                    <a:pt x="57" y="30"/>
                  </a:lnTo>
                  <a:lnTo>
                    <a:pt x="45" y="41"/>
                  </a:lnTo>
                  <a:lnTo>
                    <a:pt x="35" y="55"/>
                  </a:lnTo>
                  <a:lnTo>
                    <a:pt x="26" y="69"/>
                  </a:lnTo>
                  <a:lnTo>
                    <a:pt x="19" y="86"/>
                  </a:lnTo>
                  <a:lnTo>
                    <a:pt x="12" y="104"/>
                  </a:lnTo>
                  <a:lnTo>
                    <a:pt x="7" y="122"/>
                  </a:lnTo>
                  <a:lnTo>
                    <a:pt x="4" y="143"/>
                  </a:lnTo>
                  <a:lnTo>
                    <a:pt x="1" y="165"/>
                  </a:lnTo>
                  <a:lnTo>
                    <a:pt x="0" y="188"/>
                  </a:lnTo>
                  <a:lnTo>
                    <a:pt x="0" y="213"/>
                  </a:lnTo>
                  <a:lnTo>
                    <a:pt x="2" y="238"/>
                  </a:lnTo>
                  <a:lnTo>
                    <a:pt x="4" y="265"/>
                  </a:lnTo>
                  <a:lnTo>
                    <a:pt x="8" y="293"/>
                  </a:lnTo>
                  <a:lnTo>
                    <a:pt x="13" y="323"/>
                  </a:lnTo>
                  <a:lnTo>
                    <a:pt x="20" y="352"/>
                  </a:lnTo>
                  <a:lnTo>
                    <a:pt x="27" y="383"/>
                  </a:lnTo>
                  <a:lnTo>
                    <a:pt x="35" y="414"/>
                  </a:lnTo>
                  <a:lnTo>
                    <a:pt x="46" y="447"/>
                  </a:lnTo>
                  <a:lnTo>
                    <a:pt x="56" y="480"/>
                  </a:lnTo>
                  <a:lnTo>
                    <a:pt x="68" y="513"/>
                  </a:lnTo>
                  <a:lnTo>
                    <a:pt x="81" y="548"/>
                  </a:lnTo>
                  <a:lnTo>
                    <a:pt x="96" y="582"/>
                  </a:lnTo>
                  <a:lnTo>
                    <a:pt x="110" y="618"/>
                  </a:lnTo>
                  <a:lnTo>
                    <a:pt x="127" y="654"/>
                  </a:lnTo>
                  <a:lnTo>
                    <a:pt x="145" y="691"/>
                  </a:lnTo>
                  <a:lnTo>
                    <a:pt x="164" y="727"/>
                  </a:lnTo>
                  <a:lnTo>
                    <a:pt x="182" y="764"/>
                  </a:lnTo>
                  <a:lnTo>
                    <a:pt x="225" y="838"/>
                  </a:lnTo>
                  <a:lnTo>
                    <a:pt x="271" y="913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7600" y="5435640"/>
              <a:ext cx="829800" cy="1143000"/>
            </a:xfrm>
            <a:custGeom>
              <a:avLst/>
              <a:gdLst/>
              <a:ahLst/>
              <a:rect l="l" t="t" r="r" b="b"/>
              <a:pathLst>
                <a:path w="1130" h="1439">
                  <a:moveTo>
                    <a:pt x="818" y="904"/>
                  </a:moveTo>
                  <a:lnTo>
                    <a:pt x="868" y="832"/>
                  </a:lnTo>
                  <a:lnTo>
                    <a:pt x="915" y="761"/>
                  </a:lnTo>
                  <a:lnTo>
                    <a:pt x="937" y="725"/>
                  </a:lnTo>
                  <a:lnTo>
                    <a:pt x="956" y="689"/>
                  </a:lnTo>
                  <a:lnTo>
                    <a:pt x="976" y="654"/>
                  </a:lnTo>
                  <a:lnTo>
                    <a:pt x="995" y="619"/>
                  </a:lnTo>
                  <a:lnTo>
                    <a:pt x="1013" y="584"/>
                  </a:lnTo>
                  <a:lnTo>
                    <a:pt x="1028" y="550"/>
                  </a:lnTo>
                  <a:lnTo>
                    <a:pt x="1044" y="517"/>
                  </a:lnTo>
                  <a:lnTo>
                    <a:pt x="1057" y="483"/>
                  </a:lnTo>
                  <a:lnTo>
                    <a:pt x="1070" y="451"/>
                  </a:lnTo>
                  <a:lnTo>
                    <a:pt x="1081" y="420"/>
                  </a:lnTo>
                  <a:lnTo>
                    <a:pt x="1092" y="388"/>
                  </a:lnTo>
                  <a:lnTo>
                    <a:pt x="1101" y="358"/>
                  </a:lnTo>
                  <a:lnTo>
                    <a:pt x="1110" y="329"/>
                  </a:lnTo>
                  <a:lnTo>
                    <a:pt x="1116" y="300"/>
                  </a:lnTo>
                  <a:lnTo>
                    <a:pt x="1122" y="273"/>
                  </a:lnTo>
                  <a:lnTo>
                    <a:pt x="1126" y="245"/>
                  </a:lnTo>
                  <a:lnTo>
                    <a:pt x="1128" y="220"/>
                  </a:lnTo>
                  <a:lnTo>
                    <a:pt x="1130" y="195"/>
                  </a:lnTo>
                  <a:lnTo>
                    <a:pt x="1130" y="172"/>
                  </a:lnTo>
                  <a:lnTo>
                    <a:pt x="1129" y="151"/>
                  </a:lnTo>
                  <a:lnTo>
                    <a:pt x="1127" y="130"/>
                  </a:lnTo>
                  <a:lnTo>
                    <a:pt x="1123" y="110"/>
                  </a:lnTo>
                  <a:lnTo>
                    <a:pt x="1118" y="92"/>
                  </a:lnTo>
                  <a:lnTo>
                    <a:pt x="1112" y="75"/>
                  </a:lnTo>
                  <a:lnTo>
                    <a:pt x="1103" y="60"/>
                  </a:lnTo>
                  <a:lnTo>
                    <a:pt x="1094" y="46"/>
                  </a:lnTo>
                  <a:lnTo>
                    <a:pt x="1083" y="35"/>
                  </a:lnTo>
                  <a:lnTo>
                    <a:pt x="1071" y="24"/>
                  </a:lnTo>
                  <a:lnTo>
                    <a:pt x="1057" y="16"/>
                  </a:lnTo>
                  <a:lnTo>
                    <a:pt x="1043" y="9"/>
                  </a:lnTo>
                  <a:lnTo>
                    <a:pt x="1026" y="5"/>
                  </a:lnTo>
                  <a:lnTo>
                    <a:pt x="1009" y="1"/>
                  </a:lnTo>
                  <a:lnTo>
                    <a:pt x="992" y="0"/>
                  </a:lnTo>
                  <a:lnTo>
                    <a:pt x="973" y="0"/>
                  </a:lnTo>
                  <a:lnTo>
                    <a:pt x="953" y="4"/>
                  </a:lnTo>
                  <a:lnTo>
                    <a:pt x="932" y="8"/>
                  </a:lnTo>
                  <a:lnTo>
                    <a:pt x="912" y="13"/>
                  </a:lnTo>
                  <a:lnTo>
                    <a:pt x="890" y="20"/>
                  </a:lnTo>
                  <a:lnTo>
                    <a:pt x="867" y="30"/>
                  </a:lnTo>
                  <a:lnTo>
                    <a:pt x="843" y="40"/>
                  </a:lnTo>
                  <a:lnTo>
                    <a:pt x="819" y="53"/>
                  </a:lnTo>
                  <a:lnTo>
                    <a:pt x="795" y="66"/>
                  </a:lnTo>
                  <a:lnTo>
                    <a:pt x="770" y="81"/>
                  </a:lnTo>
                  <a:lnTo>
                    <a:pt x="744" y="97"/>
                  </a:lnTo>
                  <a:lnTo>
                    <a:pt x="718" y="116"/>
                  </a:lnTo>
                  <a:lnTo>
                    <a:pt x="692" y="135"/>
                  </a:lnTo>
                  <a:lnTo>
                    <a:pt x="666" y="156"/>
                  </a:lnTo>
                  <a:lnTo>
                    <a:pt x="638" y="178"/>
                  </a:lnTo>
                  <a:lnTo>
                    <a:pt x="611" y="202"/>
                  </a:lnTo>
                  <a:lnTo>
                    <a:pt x="584" y="227"/>
                  </a:lnTo>
                  <a:lnTo>
                    <a:pt x="556" y="252"/>
                  </a:lnTo>
                  <a:lnTo>
                    <a:pt x="529" y="279"/>
                  </a:lnTo>
                  <a:lnTo>
                    <a:pt x="502" y="308"/>
                  </a:lnTo>
                  <a:lnTo>
                    <a:pt x="474" y="337"/>
                  </a:lnTo>
                  <a:lnTo>
                    <a:pt x="447" y="367"/>
                  </a:lnTo>
                  <a:lnTo>
                    <a:pt x="420" y="399"/>
                  </a:lnTo>
                  <a:lnTo>
                    <a:pt x="365" y="465"/>
                  </a:lnTo>
                  <a:lnTo>
                    <a:pt x="312" y="535"/>
                  </a:lnTo>
                  <a:lnTo>
                    <a:pt x="262" y="607"/>
                  </a:lnTo>
                  <a:lnTo>
                    <a:pt x="215" y="679"/>
                  </a:lnTo>
                  <a:lnTo>
                    <a:pt x="193" y="716"/>
                  </a:lnTo>
                  <a:lnTo>
                    <a:pt x="174" y="751"/>
                  </a:lnTo>
                  <a:lnTo>
                    <a:pt x="154" y="786"/>
                  </a:lnTo>
                  <a:lnTo>
                    <a:pt x="135" y="821"/>
                  </a:lnTo>
                  <a:lnTo>
                    <a:pt x="118" y="855"/>
                  </a:lnTo>
                  <a:lnTo>
                    <a:pt x="102" y="890"/>
                  </a:lnTo>
                  <a:lnTo>
                    <a:pt x="86" y="923"/>
                  </a:lnTo>
                  <a:lnTo>
                    <a:pt x="73" y="957"/>
                  </a:lnTo>
                  <a:lnTo>
                    <a:pt x="60" y="989"/>
                  </a:lnTo>
                  <a:lnTo>
                    <a:pt x="49" y="1020"/>
                  </a:lnTo>
                  <a:lnTo>
                    <a:pt x="38" y="1051"/>
                  </a:lnTo>
                  <a:lnTo>
                    <a:pt x="29" y="1082"/>
                  </a:lnTo>
                  <a:lnTo>
                    <a:pt x="20" y="1111"/>
                  </a:lnTo>
                  <a:lnTo>
                    <a:pt x="14" y="1140"/>
                  </a:lnTo>
                  <a:lnTo>
                    <a:pt x="8" y="1167"/>
                  </a:lnTo>
                  <a:lnTo>
                    <a:pt x="4" y="1194"/>
                  </a:lnTo>
                  <a:lnTo>
                    <a:pt x="2" y="1219"/>
                  </a:lnTo>
                  <a:lnTo>
                    <a:pt x="0" y="1244"/>
                  </a:lnTo>
                  <a:lnTo>
                    <a:pt x="0" y="1267"/>
                  </a:lnTo>
                  <a:lnTo>
                    <a:pt x="1" y="1289"/>
                  </a:lnTo>
                  <a:lnTo>
                    <a:pt x="3" y="1310"/>
                  </a:lnTo>
                  <a:lnTo>
                    <a:pt x="7" y="1330"/>
                  </a:lnTo>
                  <a:lnTo>
                    <a:pt x="12" y="1348"/>
                  </a:lnTo>
                  <a:lnTo>
                    <a:pt x="18" y="1364"/>
                  </a:lnTo>
                  <a:lnTo>
                    <a:pt x="27" y="1380"/>
                  </a:lnTo>
                  <a:lnTo>
                    <a:pt x="36" y="1393"/>
                  </a:lnTo>
                  <a:lnTo>
                    <a:pt x="47" y="1405"/>
                  </a:lnTo>
                  <a:lnTo>
                    <a:pt x="59" y="1415"/>
                  </a:lnTo>
                  <a:lnTo>
                    <a:pt x="73" y="1424"/>
                  </a:lnTo>
                  <a:lnTo>
                    <a:pt x="87" y="1431"/>
                  </a:lnTo>
                  <a:lnTo>
                    <a:pt x="104" y="1435"/>
                  </a:lnTo>
                  <a:lnTo>
                    <a:pt x="121" y="1438"/>
                  </a:lnTo>
                  <a:lnTo>
                    <a:pt x="138" y="1439"/>
                  </a:lnTo>
                  <a:lnTo>
                    <a:pt x="157" y="1439"/>
                  </a:lnTo>
                  <a:lnTo>
                    <a:pt x="177" y="1436"/>
                  </a:lnTo>
                  <a:lnTo>
                    <a:pt x="198" y="1433"/>
                  </a:lnTo>
                  <a:lnTo>
                    <a:pt x="218" y="1427"/>
                  </a:lnTo>
                  <a:lnTo>
                    <a:pt x="240" y="1420"/>
                  </a:lnTo>
                  <a:lnTo>
                    <a:pt x="263" y="1410"/>
                  </a:lnTo>
                  <a:lnTo>
                    <a:pt x="287" y="1400"/>
                  </a:lnTo>
                  <a:lnTo>
                    <a:pt x="311" y="1387"/>
                  </a:lnTo>
                  <a:lnTo>
                    <a:pt x="335" y="1374"/>
                  </a:lnTo>
                  <a:lnTo>
                    <a:pt x="360" y="1359"/>
                  </a:lnTo>
                  <a:lnTo>
                    <a:pt x="386" y="1342"/>
                  </a:lnTo>
                  <a:lnTo>
                    <a:pt x="412" y="1324"/>
                  </a:lnTo>
                  <a:lnTo>
                    <a:pt x="438" y="1305"/>
                  </a:lnTo>
                  <a:lnTo>
                    <a:pt x="464" y="1284"/>
                  </a:lnTo>
                  <a:lnTo>
                    <a:pt x="492" y="1262"/>
                  </a:lnTo>
                  <a:lnTo>
                    <a:pt x="519" y="1238"/>
                  </a:lnTo>
                  <a:lnTo>
                    <a:pt x="546" y="1213"/>
                  </a:lnTo>
                  <a:lnTo>
                    <a:pt x="574" y="1188"/>
                  </a:lnTo>
                  <a:lnTo>
                    <a:pt x="601" y="1161"/>
                  </a:lnTo>
                  <a:lnTo>
                    <a:pt x="628" y="1133"/>
                  </a:lnTo>
                  <a:lnTo>
                    <a:pt x="656" y="1103"/>
                  </a:lnTo>
                  <a:lnTo>
                    <a:pt x="683" y="1072"/>
                  </a:lnTo>
                  <a:lnTo>
                    <a:pt x="710" y="1041"/>
                  </a:lnTo>
                  <a:lnTo>
                    <a:pt x="765" y="974"/>
                  </a:lnTo>
                  <a:lnTo>
                    <a:pt x="818" y="904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32640" y="5948280"/>
              <a:ext cx="47880" cy="525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10" y="8"/>
                  </a:moveTo>
                  <a:lnTo>
                    <a:pt x="15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1" y="16"/>
                  </a:lnTo>
                  <a:lnTo>
                    <a:pt x="64" y="22"/>
                  </a:lnTo>
                  <a:lnTo>
                    <a:pt x="65" y="28"/>
                  </a:lnTo>
                  <a:lnTo>
                    <a:pt x="65" y="34"/>
                  </a:lnTo>
                  <a:lnTo>
                    <a:pt x="65" y="41"/>
                  </a:lnTo>
                  <a:lnTo>
                    <a:pt x="63" y="47"/>
                  </a:lnTo>
                  <a:lnTo>
                    <a:pt x="59" y="52"/>
                  </a:lnTo>
                  <a:lnTo>
                    <a:pt x="55" y="57"/>
                  </a:lnTo>
                  <a:lnTo>
                    <a:pt x="50" y="61"/>
                  </a:lnTo>
                  <a:lnTo>
                    <a:pt x="44" y="65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25" y="66"/>
                  </a:lnTo>
                  <a:lnTo>
                    <a:pt x="19" y="63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4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3480" y="5734080"/>
              <a:ext cx="1256400" cy="506160"/>
            </a:xfrm>
            <a:custGeom>
              <a:avLst/>
              <a:gdLst/>
              <a:ahLst/>
              <a:rect l="l" t="t" r="r" b="b"/>
              <a:pathLst>
                <a:path w="1715" h="637">
                  <a:moveTo>
                    <a:pt x="881" y="6"/>
                  </a:moveTo>
                  <a:lnTo>
                    <a:pt x="969" y="14"/>
                  </a:lnTo>
                  <a:lnTo>
                    <a:pt x="1053" y="26"/>
                  </a:lnTo>
                  <a:lnTo>
                    <a:pt x="1135" y="39"/>
                  </a:lnTo>
                  <a:lnTo>
                    <a:pt x="1212" y="56"/>
                  </a:lnTo>
                  <a:lnTo>
                    <a:pt x="1250" y="64"/>
                  </a:lnTo>
                  <a:lnTo>
                    <a:pt x="1286" y="75"/>
                  </a:lnTo>
                  <a:lnTo>
                    <a:pt x="1322" y="84"/>
                  </a:lnTo>
                  <a:lnTo>
                    <a:pt x="1356" y="96"/>
                  </a:lnTo>
                  <a:lnTo>
                    <a:pt x="1390" y="106"/>
                  </a:lnTo>
                  <a:lnTo>
                    <a:pt x="1421" y="119"/>
                  </a:lnTo>
                  <a:lnTo>
                    <a:pt x="1451" y="130"/>
                  </a:lnTo>
                  <a:lnTo>
                    <a:pt x="1480" y="143"/>
                  </a:lnTo>
                  <a:lnTo>
                    <a:pt x="1508" y="156"/>
                  </a:lnTo>
                  <a:lnTo>
                    <a:pt x="1534" y="170"/>
                  </a:lnTo>
                  <a:lnTo>
                    <a:pt x="1558" y="183"/>
                  </a:lnTo>
                  <a:lnTo>
                    <a:pt x="1581" y="197"/>
                  </a:lnTo>
                  <a:lnTo>
                    <a:pt x="1603" y="211"/>
                  </a:lnTo>
                  <a:lnTo>
                    <a:pt x="1623" y="226"/>
                  </a:lnTo>
                  <a:lnTo>
                    <a:pt x="1641" y="241"/>
                  </a:lnTo>
                  <a:lnTo>
                    <a:pt x="1656" y="256"/>
                  </a:lnTo>
                  <a:lnTo>
                    <a:pt x="1671" y="271"/>
                  </a:lnTo>
                  <a:lnTo>
                    <a:pt x="1683" y="287"/>
                  </a:lnTo>
                  <a:lnTo>
                    <a:pt x="1694" y="302"/>
                  </a:lnTo>
                  <a:lnTo>
                    <a:pt x="1702" y="319"/>
                  </a:lnTo>
                  <a:lnTo>
                    <a:pt x="1708" y="335"/>
                  </a:lnTo>
                  <a:lnTo>
                    <a:pt x="1713" y="350"/>
                  </a:lnTo>
                  <a:lnTo>
                    <a:pt x="1715" y="367"/>
                  </a:lnTo>
                  <a:lnTo>
                    <a:pt x="1715" y="383"/>
                  </a:lnTo>
                  <a:lnTo>
                    <a:pt x="1713" y="398"/>
                  </a:lnTo>
                  <a:lnTo>
                    <a:pt x="1708" y="414"/>
                  </a:lnTo>
                  <a:lnTo>
                    <a:pt x="1701" y="429"/>
                  </a:lnTo>
                  <a:lnTo>
                    <a:pt x="1693" y="444"/>
                  </a:lnTo>
                  <a:lnTo>
                    <a:pt x="1682" y="459"/>
                  </a:lnTo>
                  <a:lnTo>
                    <a:pt x="1669" y="472"/>
                  </a:lnTo>
                  <a:lnTo>
                    <a:pt x="1655" y="486"/>
                  </a:lnTo>
                  <a:lnTo>
                    <a:pt x="1639" y="499"/>
                  </a:lnTo>
                  <a:lnTo>
                    <a:pt x="1620" y="512"/>
                  </a:lnTo>
                  <a:lnTo>
                    <a:pt x="1600" y="523"/>
                  </a:lnTo>
                  <a:lnTo>
                    <a:pt x="1578" y="535"/>
                  </a:lnTo>
                  <a:lnTo>
                    <a:pt x="1555" y="546"/>
                  </a:lnTo>
                  <a:lnTo>
                    <a:pt x="1530" y="557"/>
                  </a:lnTo>
                  <a:lnTo>
                    <a:pt x="1504" y="566"/>
                  </a:lnTo>
                  <a:lnTo>
                    <a:pt x="1476" y="575"/>
                  </a:lnTo>
                  <a:lnTo>
                    <a:pt x="1447" y="585"/>
                  </a:lnTo>
                  <a:lnTo>
                    <a:pt x="1417" y="592"/>
                  </a:lnTo>
                  <a:lnTo>
                    <a:pt x="1384" y="599"/>
                  </a:lnTo>
                  <a:lnTo>
                    <a:pt x="1352" y="607"/>
                  </a:lnTo>
                  <a:lnTo>
                    <a:pt x="1318" y="613"/>
                  </a:lnTo>
                  <a:lnTo>
                    <a:pt x="1282" y="618"/>
                  </a:lnTo>
                  <a:lnTo>
                    <a:pt x="1246" y="623"/>
                  </a:lnTo>
                  <a:lnTo>
                    <a:pt x="1170" y="631"/>
                  </a:lnTo>
                  <a:lnTo>
                    <a:pt x="1090" y="635"/>
                  </a:lnTo>
                  <a:lnTo>
                    <a:pt x="1007" y="637"/>
                  </a:lnTo>
                  <a:lnTo>
                    <a:pt x="922" y="635"/>
                  </a:lnTo>
                  <a:lnTo>
                    <a:pt x="834" y="630"/>
                  </a:lnTo>
                  <a:lnTo>
                    <a:pt x="747" y="621"/>
                  </a:lnTo>
                  <a:lnTo>
                    <a:pt x="662" y="611"/>
                  </a:lnTo>
                  <a:lnTo>
                    <a:pt x="581" y="596"/>
                  </a:lnTo>
                  <a:lnTo>
                    <a:pt x="503" y="581"/>
                  </a:lnTo>
                  <a:lnTo>
                    <a:pt x="465" y="571"/>
                  </a:lnTo>
                  <a:lnTo>
                    <a:pt x="429" y="562"/>
                  </a:lnTo>
                  <a:lnTo>
                    <a:pt x="393" y="551"/>
                  </a:lnTo>
                  <a:lnTo>
                    <a:pt x="359" y="541"/>
                  </a:lnTo>
                  <a:lnTo>
                    <a:pt x="325" y="530"/>
                  </a:lnTo>
                  <a:lnTo>
                    <a:pt x="294" y="518"/>
                  </a:lnTo>
                  <a:lnTo>
                    <a:pt x="264" y="506"/>
                  </a:lnTo>
                  <a:lnTo>
                    <a:pt x="235" y="493"/>
                  </a:lnTo>
                  <a:lnTo>
                    <a:pt x="207" y="481"/>
                  </a:lnTo>
                  <a:lnTo>
                    <a:pt x="181" y="467"/>
                  </a:lnTo>
                  <a:lnTo>
                    <a:pt x="157" y="453"/>
                  </a:lnTo>
                  <a:lnTo>
                    <a:pt x="134" y="439"/>
                  </a:lnTo>
                  <a:lnTo>
                    <a:pt x="112" y="424"/>
                  </a:lnTo>
                  <a:lnTo>
                    <a:pt x="92" y="410"/>
                  </a:lnTo>
                  <a:lnTo>
                    <a:pt x="74" y="395"/>
                  </a:lnTo>
                  <a:lnTo>
                    <a:pt x="59" y="380"/>
                  </a:lnTo>
                  <a:lnTo>
                    <a:pt x="44" y="365"/>
                  </a:lnTo>
                  <a:lnTo>
                    <a:pt x="32" y="349"/>
                  </a:lnTo>
                  <a:lnTo>
                    <a:pt x="21" y="333"/>
                  </a:lnTo>
                  <a:lnTo>
                    <a:pt x="13" y="318"/>
                  </a:lnTo>
                  <a:lnTo>
                    <a:pt x="7" y="301"/>
                  </a:lnTo>
                  <a:lnTo>
                    <a:pt x="2" y="286"/>
                  </a:lnTo>
                  <a:lnTo>
                    <a:pt x="0" y="270"/>
                  </a:lnTo>
                  <a:lnTo>
                    <a:pt x="0" y="253"/>
                  </a:lnTo>
                  <a:lnTo>
                    <a:pt x="2" y="238"/>
                  </a:lnTo>
                  <a:lnTo>
                    <a:pt x="8" y="222"/>
                  </a:lnTo>
                  <a:lnTo>
                    <a:pt x="14" y="206"/>
                  </a:lnTo>
                  <a:lnTo>
                    <a:pt x="22" y="192"/>
                  </a:lnTo>
                  <a:lnTo>
                    <a:pt x="33" y="177"/>
                  </a:lnTo>
                  <a:lnTo>
                    <a:pt x="46" y="164"/>
                  </a:lnTo>
                  <a:lnTo>
                    <a:pt x="61" y="150"/>
                  </a:lnTo>
                  <a:lnTo>
                    <a:pt x="76" y="137"/>
                  </a:lnTo>
                  <a:lnTo>
                    <a:pt x="95" y="125"/>
                  </a:lnTo>
                  <a:lnTo>
                    <a:pt x="115" y="112"/>
                  </a:lnTo>
                  <a:lnTo>
                    <a:pt x="137" y="101"/>
                  </a:lnTo>
                  <a:lnTo>
                    <a:pt x="160" y="91"/>
                  </a:lnTo>
                  <a:lnTo>
                    <a:pt x="185" y="80"/>
                  </a:lnTo>
                  <a:lnTo>
                    <a:pt x="211" y="70"/>
                  </a:lnTo>
                  <a:lnTo>
                    <a:pt x="239" y="60"/>
                  </a:lnTo>
                  <a:lnTo>
                    <a:pt x="268" y="52"/>
                  </a:lnTo>
                  <a:lnTo>
                    <a:pt x="298" y="44"/>
                  </a:lnTo>
                  <a:lnTo>
                    <a:pt x="331" y="36"/>
                  </a:lnTo>
                  <a:lnTo>
                    <a:pt x="363" y="29"/>
                  </a:lnTo>
                  <a:lnTo>
                    <a:pt x="397" y="24"/>
                  </a:lnTo>
                  <a:lnTo>
                    <a:pt x="433" y="18"/>
                  </a:lnTo>
                  <a:lnTo>
                    <a:pt x="469" y="13"/>
                  </a:lnTo>
                  <a:lnTo>
                    <a:pt x="545" y="6"/>
                  </a:lnTo>
                  <a:lnTo>
                    <a:pt x="625" y="1"/>
                  </a:lnTo>
                  <a:lnTo>
                    <a:pt x="708" y="0"/>
                  </a:lnTo>
                  <a:lnTo>
                    <a:pt x="793" y="1"/>
                  </a:lnTo>
                  <a:lnTo>
                    <a:pt x="881" y="6"/>
                  </a:lnTo>
                  <a:close/>
                </a:path>
              </a:pathLst>
            </a:custGeom>
            <a:noFill/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915240" y="5870520"/>
              <a:ext cx="109800" cy="119160"/>
              <a:chOff x="6915240" y="5870520"/>
              <a:chExt cx="109800" cy="119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915240" y="5870520"/>
                <a:ext cx="109800" cy="11916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26" y="130"/>
                    </a:moveTo>
                    <a:lnTo>
                      <a:pt x="136" y="119"/>
                    </a:lnTo>
                    <a:lnTo>
                      <a:pt x="144" y="106"/>
                    </a:lnTo>
                    <a:lnTo>
                      <a:pt x="148" y="93"/>
                    </a:lnTo>
                    <a:lnTo>
                      <a:pt x="150" y="78"/>
                    </a:lnTo>
                    <a:lnTo>
                      <a:pt x="149" y="63"/>
                    </a:lnTo>
                    <a:lnTo>
                      <a:pt x="146" y="50"/>
                    </a:lnTo>
                    <a:lnTo>
                      <a:pt x="139" y="36"/>
                    </a:lnTo>
                    <a:lnTo>
                      <a:pt x="130" y="24"/>
                    </a:lnTo>
                    <a:lnTo>
                      <a:pt x="119" y="13"/>
                    </a:lnTo>
                    <a:lnTo>
                      <a:pt x="106" y="6"/>
                    </a:lnTo>
                    <a:lnTo>
                      <a:pt x="92" y="2"/>
                    </a:lnTo>
                    <a:lnTo>
                      <a:pt x="78" y="0"/>
                    </a:lnTo>
                    <a:lnTo>
                      <a:pt x="63" y="1"/>
                    </a:lnTo>
                    <a:lnTo>
                      <a:pt x="50" y="4"/>
                    </a:lnTo>
                    <a:lnTo>
                      <a:pt x="36" y="10"/>
                    </a:lnTo>
                    <a:lnTo>
                      <a:pt x="24" y="20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7"/>
                    </a:lnTo>
                    <a:lnTo>
                      <a:pt x="0" y="72"/>
                    </a:lnTo>
                    <a:lnTo>
                      <a:pt x="1" y="86"/>
                    </a:lnTo>
                    <a:lnTo>
                      <a:pt x="4" y="100"/>
                    </a:lnTo>
                    <a:lnTo>
                      <a:pt x="10" y="113"/>
                    </a:lnTo>
                    <a:lnTo>
                      <a:pt x="20" y="126"/>
                    </a:lnTo>
                    <a:lnTo>
                      <a:pt x="31" y="136"/>
                    </a:lnTo>
                    <a:lnTo>
                      <a:pt x="44" y="144"/>
                    </a:lnTo>
                    <a:lnTo>
                      <a:pt x="57" y="148"/>
                    </a:lnTo>
                    <a:lnTo>
                      <a:pt x="72" y="150"/>
                    </a:lnTo>
                    <a:lnTo>
                      <a:pt x="86" y="149"/>
                    </a:lnTo>
                    <a:lnTo>
                      <a:pt x="100" y="146"/>
                    </a:lnTo>
                    <a:lnTo>
                      <a:pt x="113" y="140"/>
                    </a:lnTo>
                    <a:lnTo>
                      <a:pt x="126" y="13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44760" y="590220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74" h="71">
                    <a:moveTo>
                      <a:pt x="74" y="10"/>
                    </a:moveTo>
                    <a:lnTo>
                      <a:pt x="67" y="0"/>
                    </a:lnTo>
                    <a:lnTo>
                      <a:pt x="0" y="62"/>
                    </a:lnTo>
                    <a:lnTo>
                      <a:pt x="8" y="71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028880" y="-2801880"/>
            <a:ext cx="2714040" cy="2801880"/>
            <a:chOff x="1028880" y="-2801880"/>
            <a:chExt cx="2714040" cy="2801880"/>
          </a:xfrm>
        </p:grpSpPr>
        <p:grpSp>
          <p:nvGrpSpPr>
            <p:cNvPr id="237" name=""/>
            <p:cNvGrpSpPr/>
            <p:nvPr/>
          </p:nvGrpSpPr>
          <p:grpSpPr>
            <a:xfrm>
              <a:off x="1491840" y="-1820880"/>
              <a:ext cx="1320840" cy="1455840"/>
              <a:chOff x="1491840" y="-1820880"/>
              <a:chExt cx="1320840" cy="1455840"/>
            </a:xfrm>
          </p:grpSpPr>
          <p:sp>
            <p:nvSpPr>
              <p:cNvPr id="238" name=""/>
              <p:cNvSpPr/>
              <p:nvPr/>
            </p:nvSpPr>
            <p:spPr>
              <a:xfrm>
                <a:off x="1897200" y="-1768680"/>
                <a:ext cx="496440" cy="1351080"/>
              </a:xfrm>
              <a:custGeom>
                <a:avLst/>
                <a:gdLst/>
                <a:ahLst/>
                <a:rect l="l" t="t" r="r" b="b"/>
                <a:pathLst>
                  <a:path w="680" h="1701">
                    <a:moveTo>
                      <a:pt x="649" y="903"/>
                    </a:moveTo>
                    <a:lnTo>
                      <a:pt x="662" y="817"/>
                    </a:lnTo>
                    <a:lnTo>
                      <a:pt x="671" y="731"/>
                    </a:lnTo>
                    <a:lnTo>
                      <a:pt x="678" y="649"/>
                    </a:lnTo>
                    <a:lnTo>
                      <a:pt x="680" y="570"/>
                    </a:lnTo>
                    <a:lnTo>
                      <a:pt x="680" y="492"/>
                    </a:lnTo>
                    <a:lnTo>
                      <a:pt x="679" y="456"/>
                    </a:lnTo>
                    <a:lnTo>
                      <a:pt x="677" y="421"/>
                    </a:lnTo>
                    <a:lnTo>
                      <a:pt x="674" y="385"/>
                    </a:lnTo>
                    <a:lnTo>
                      <a:pt x="669" y="352"/>
                    </a:lnTo>
                    <a:lnTo>
                      <a:pt x="665" y="319"/>
                    </a:lnTo>
                    <a:lnTo>
                      <a:pt x="660" y="288"/>
                    </a:lnTo>
                    <a:lnTo>
                      <a:pt x="654" y="258"/>
                    </a:lnTo>
                    <a:lnTo>
                      <a:pt x="647" y="230"/>
                    </a:lnTo>
                    <a:lnTo>
                      <a:pt x="640" y="203"/>
                    </a:lnTo>
                    <a:lnTo>
                      <a:pt x="632" y="177"/>
                    </a:lnTo>
                    <a:lnTo>
                      <a:pt x="623" y="153"/>
                    </a:lnTo>
                    <a:lnTo>
                      <a:pt x="614" y="130"/>
                    </a:lnTo>
                    <a:lnTo>
                      <a:pt x="604" y="109"/>
                    </a:lnTo>
                    <a:lnTo>
                      <a:pt x="593" y="90"/>
                    </a:lnTo>
                    <a:lnTo>
                      <a:pt x="582" y="72"/>
                    </a:lnTo>
                    <a:lnTo>
                      <a:pt x="569" y="57"/>
                    </a:lnTo>
                    <a:lnTo>
                      <a:pt x="557" y="42"/>
                    </a:lnTo>
                    <a:lnTo>
                      <a:pt x="543" y="31"/>
                    </a:lnTo>
                    <a:lnTo>
                      <a:pt x="530" y="20"/>
                    </a:lnTo>
                    <a:lnTo>
                      <a:pt x="515" y="12"/>
                    </a:lnTo>
                    <a:lnTo>
                      <a:pt x="499" y="7"/>
                    </a:lnTo>
                    <a:lnTo>
                      <a:pt x="484" y="2"/>
                    </a:lnTo>
                    <a:lnTo>
                      <a:pt x="468" y="0"/>
                    </a:lnTo>
                    <a:lnTo>
                      <a:pt x="452" y="1"/>
                    </a:lnTo>
                    <a:lnTo>
                      <a:pt x="435" y="5"/>
                    </a:lnTo>
                    <a:lnTo>
                      <a:pt x="419" y="9"/>
                    </a:lnTo>
                    <a:lnTo>
                      <a:pt x="403" y="16"/>
                    </a:lnTo>
                    <a:lnTo>
                      <a:pt x="386" y="25"/>
                    </a:lnTo>
                    <a:lnTo>
                      <a:pt x="369" y="36"/>
                    </a:lnTo>
                    <a:lnTo>
                      <a:pt x="353" y="48"/>
                    </a:lnTo>
                    <a:lnTo>
                      <a:pt x="336" y="63"/>
                    </a:lnTo>
                    <a:lnTo>
                      <a:pt x="320" y="80"/>
                    </a:lnTo>
                    <a:lnTo>
                      <a:pt x="304" y="98"/>
                    </a:lnTo>
                    <a:lnTo>
                      <a:pt x="287" y="118"/>
                    </a:lnTo>
                    <a:lnTo>
                      <a:pt x="271" y="139"/>
                    </a:lnTo>
                    <a:lnTo>
                      <a:pt x="256" y="163"/>
                    </a:lnTo>
                    <a:lnTo>
                      <a:pt x="240" y="187"/>
                    </a:lnTo>
                    <a:lnTo>
                      <a:pt x="224" y="214"/>
                    </a:lnTo>
                    <a:lnTo>
                      <a:pt x="209" y="241"/>
                    </a:lnTo>
                    <a:lnTo>
                      <a:pt x="194" y="270"/>
                    </a:lnTo>
                    <a:lnTo>
                      <a:pt x="180" y="301"/>
                    </a:lnTo>
                    <a:lnTo>
                      <a:pt x="165" y="333"/>
                    </a:lnTo>
                    <a:lnTo>
                      <a:pt x="151" y="366"/>
                    </a:lnTo>
                    <a:lnTo>
                      <a:pt x="138" y="400"/>
                    </a:lnTo>
                    <a:lnTo>
                      <a:pt x="124" y="435"/>
                    </a:lnTo>
                    <a:lnTo>
                      <a:pt x="112" y="472"/>
                    </a:lnTo>
                    <a:lnTo>
                      <a:pt x="100" y="509"/>
                    </a:lnTo>
                    <a:lnTo>
                      <a:pt x="89" y="548"/>
                    </a:lnTo>
                    <a:lnTo>
                      <a:pt x="67" y="628"/>
                    </a:lnTo>
                    <a:lnTo>
                      <a:pt x="48" y="711"/>
                    </a:lnTo>
                    <a:lnTo>
                      <a:pt x="32" y="798"/>
                    </a:lnTo>
                    <a:lnTo>
                      <a:pt x="18" y="885"/>
                    </a:lnTo>
                    <a:lnTo>
                      <a:pt x="9" y="970"/>
                    </a:lnTo>
                    <a:lnTo>
                      <a:pt x="2" y="1052"/>
                    </a:lnTo>
                    <a:lnTo>
                      <a:pt x="0" y="1133"/>
                    </a:lnTo>
                    <a:lnTo>
                      <a:pt x="0" y="1209"/>
                    </a:lnTo>
                    <a:lnTo>
                      <a:pt x="1" y="1245"/>
                    </a:lnTo>
                    <a:lnTo>
                      <a:pt x="3" y="1281"/>
                    </a:lnTo>
                    <a:lnTo>
                      <a:pt x="7" y="1316"/>
                    </a:lnTo>
                    <a:lnTo>
                      <a:pt x="11" y="1350"/>
                    </a:lnTo>
                    <a:lnTo>
                      <a:pt x="15" y="1382"/>
                    </a:lnTo>
                    <a:lnTo>
                      <a:pt x="20" y="1413"/>
                    </a:lnTo>
                    <a:lnTo>
                      <a:pt x="26" y="1443"/>
                    </a:lnTo>
                    <a:lnTo>
                      <a:pt x="33" y="1472"/>
                    </a:lnTo>
                    <a:lnTo>
                      <a:pt x="40" y="1499"/>
                    </a:lnTo>
                    <a:lnTo>
                      <a:pt x="48" y="1525"/>
                    </a:lnTo>
                    <a:lnTo>
                      <a:pt x="57" y="1549"/>
                    </a:lnTo>
                    <a:lnTo>
                      <a:pt x="66" y="1572"/>
                    </a:lnTo>
                    <a:lnTo>
                      <a:pt x="76" y="1593"/>
                    </a:lnTo>
                    <a:lnTo>
                      <a:pt x="87" y="1611"/>
                    </a:lnTo>
                    <a:lnTo>
                      <a:pt x="98" y="1629"/>
                    </a:lnTo>
                    <a:lnTo>
                      <a:pt x="111" y="1645"/>
                    </a:lnTo>
                    <a:lnTo>
                      <a:pt x="123" y="1659"/>
                    </a:lnTo>
                    <a:lnTo>
                      <a:pt x="137" y="1671"/>
                    </a:lnTo>
                    <a:lnTo>
                      <a:pt x="150" y="1681"/>
                    </a:lnTo>
                    <a:lnTo>
                      <a:pt x="165" y="1690"/>
                    </a:lnTo>
                    <a:lnTo>
                      <a:pt x="181" y="1695"/>
                    </a:lnTo>
                    <a:lnTo>
                      <a:pt x="196" y="1699"/>
                    </a:lnTo>
                    <a:lnTo>
                      <a:pt x="212" y="1701"/>
                    </a:lnTo>
                    <a:lnTo>
                      <a:pt x="229" y="1700"/>
                    </a:lnTo>
                    <a:lnTo>
                      <a:pt x="245" y="1697"/>
                    </a:lnTo>
                    <a:lnTo>
                      <a:pt x="261" y="1693"/>
                    </a:lnTo>
                    <a:lnTo>
                      <a:pt x="278" y="1685"/>
                    </a:lnTo>
                    <a:lnTo>
                      <a:pt x="294" y="1676"/>
                    </a:lnTo>
                    <a:lnTo>
                      <a:pt x="311" y="1666"/>
                    </a:lnTo>
                    <a:lnTo>
                      <a:pt x="328" y="1653"/>
                    </a:lnTo>
                    <a:lnTo>
                      <a:pt x="344" y="1638"/>
                    </a:lnTo>
                    <a:lnTo>
                      <a:pt x="360" y="1622"/>
                    </a:lnTo>
                    <a:lnTo>
                      <a:pt x="377" y="1603"/>
                    </a:lnTo>
                    <a:lnTo>
                      <a:pt x="393" y="1583"/>
                    </a:lnTo>
                    <a:lnTo>
                      <a:pt x="409" y="1562"/>
                    </a:lnTo>
                    <a:lnTo>
                      <a:pt x="424" y="1538"/>
                    </a:lnTo>
                    <a:lnTo>
                      <a:pt x="440" y="1514"/>
                    </a:lnTo>
                    <a:lnTo>
                      <a:pt x="456" y="1487"/>
                    </a:lnTo>
                    <a:lnTo>
                      <a:pt x="471" y="1460"/>
                    </a:lnTo>
                    <a:lnTo>
                      <a:pt x="486" y="1431"/>
                    </a:lnTo>
                    <a:lnTo>
                      <a:pt x="501" y="1401"/>
                    </a:lnTo>
                    <a:lnTo>
                      <a:pt x="515" y="1368"/>
                    </a:lnTo>
                    <a:lnTo>
                      <a:pt x="529" y="1335"/>
                    </a:lnTo>
                    <a:lnTo>
                      <a:pt x="542" y="1302"/>
                    </a:lnTo>
                    <a:lnTo>
                      <a:pt x="556" y="1266"/>
                    </a:lnTo>
                    <a:lnTo>
                      <a:pt x="568" y="1230"/>
                    </a:lnTo>
                    <a:lnTo>
                      <a:pt x="580" y="1192"/>
                    </a:lnTo>
                    <a:lnTo>
                      <a:pt x="591" y="1154"/>
                    </a:lnTo>
                    <a:lnTo>
                      <a:pt x="613" y="1073"/>
                    </a:lnTo>
                    <a:lnTo>
                      <a:pt x="632" y="990"/>
                    </a:lnTo>
                    <a:lnTo>
                      <a:pt x="649" y="903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007000" y="-486000"/>
                <a:ext cx="109800" cy="120960"/>
                <a:chOff x="2007000" y="-486000"/>
                <a:chExt cx="109800" cy="120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007000" y="-486000"/>
                  <a:ext cx="109800" cy="12096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27520" y="-430200"/>
                  <a:ext cx="6696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526760" y="-1373400"/>
                <a:ext cx="1237320" cy="559080"/>
              </a:xfrm>
              <a:custGeom>
                <a:avLst/>
                <a:gdLst/>
                <a:ahLst/>
                <a:rect l="l" t="t" r="r" b="b"/>
                <a:pathLst>
                  <a:path w="1689" h="704">
                    <a:moveTo>
                      <a:pt x="782" y="46"/>
                    </a:moveTo>
                    <a:lnTo>
                      <a:pt x="696" y="64"/>
                    </a:lnTo>
                    <a:lnTo>
                      <a:pt x="613" y="86"/>
                    </a:lnTo>
                    <a:lnTo>
                      <a:pt x="535" y="110"/>
                    </a:lnTo>
                    <a:lnTo>
                      <a:pt x="496" y="124"/>
                    </a:lnTo>
                    <a:lnTo>
                      <a:pt x="458" y="136"/>
                    </a:lnTo>
                    <a:lnTo>
                      <a:pt x="423" y="151"/>
                    </a:lnTo>
                    <a:lnTo>
                      <a:pt x="388" y="165"/>
                    </a:lnTo>
                    <a:lnTo>
                      <a:pt x="354" y="179"/>
                    </a:lnTo>
                    <a:lnTo>
                      <a:pt x="322" y="195"/>
                    </a:lnTo>
                    <a:lnTo>
                      <a:pt x="291" y="209"/>
                    </a:lnTo>
                    <a:lnTo>
                      <a:pt x="260" y="225"/>
                    </a:lnTo>
                    <a:lnTo>
                      <a:pt x="231" y="241"/>
                    </a:lnTo>
                    <a:lnTo>
                      <a:pt x="204" y="257"/>
                    </a:lnTo>
                    <a:lnTo>
                      <a:pt x="179" y="274"/>
                    </a:lnTo>
                    <a:lnTo>
                      <a:pt x="155" y="290"/>
                    </a:lnTo>
                    <a:lnTo>
                      <a:pt x="132" y="306"/>
                    </a:lnTo>
                    <a:lnTo>
                      <a:pt x="111" y="324"/>
                    </a:lnTo>
                    <a:lnTo>
                      <a:pt x="92" y="341"/>
                    </a:lnTo>
                    <a:lnTo>
                      <a:pt x="74" y="357"/>
                    </a:lnTo>
                    <a:lnTo>
                      <a:pt x="58" y="374"/>
                    </a:lnTo>
                    <a:lnTo>
                      <a:pt x="44" y="392"/>
                    </a:lnTo>
                    <a:lnTo>
                      <a:pt x="32" y="408"/>
                    </a:lnTo>
                    <a:lnTo>
                      <a:pt x="22" y="425"/>
                    </a:lnTo>
                    <a:lnTo>
                      <a:pt x="13" y="442"/>
                    </a:lnTo>
                    <a:lnTo>
                      <a:pt x="6" y="460"/>
                    </a:lnTo>
                    <a:lnTo>
                      <a:pt x="2" y="475"/>
                    </a:lnTo>
                    <a:lnTo>
                      <a:pt x="0" y="492"/>
                    </a:lnTo>
                    <a:lnTo>
                      <a:pt x="0" y="509"/>
                    </a:lnTo>
                    <a:lnTo>
                      <a:pt x="2" y="524"/>
                    </a:lnTo>
                    <a:lnTo>
                      <a:pt x="6" y="540"/>
                    </a:lnTo>
                    <a:lnTo>
                      <a:pt x="12" y="554"/>
                    </a:lnTo>
                    <a:lnTo>
                      <a:pt x="21" y="569"/>
                    </a:lnTo>
                    <a:lnTo>
                      <a:pt x="32" y="583"/>
                    </a:lnTo>
                    <a:lnTo>
                      <a:pt x="44" y="595"/>
                    </a:lnTo>
                    <a:lnTo>
                      <a:pt x="58" y="608"/>
                    </a:lnTo>
                    <a:lnTo>
                      <a:pt x="75" y="619"/>
                    </a:lnTo>
                    <a:lnTo>
                      <a:pt x="93" y="630"/>
                    </a:lnTo>
                    <a:lnTo>
                      <a:pt x="112" y="640"/>
                    </a:lnTo>
                    <a:lnTo>
                      <a:pt x="133" y="649"/>
                    </a:lnTo>
                    <a:lnTo>
                      <a:pt x="156" y="658"/>
                    </a:lnTo>
                    <a:lnTo>
                      <a:pt x="181" y="666"/>
                    </a:lnTo>
                    <a:lnTo>
                      <a:pt x="207" y="673"/>
                    </a:lnTo>
                    <a:lnTo>
                      <a:pt x="234" y="680"/>
                    </a:lnTo>
                    <a:lnTo>
                      <a:pt x="263" y="686"/>
                    </a:lnTo>
                    <a:lnTo>
                      <a:pt x="293" y="690"/>
                    </a:lnTo>
                    <a:lnTo>
                      <a:pt x="324" y="694"/>
                    </a:lnTo>
                    <a:lnTo>
                      <a:pt x="357" y="698"/>
                    </a:lnTo>
                    <a:lnTo>
                      <a:pt x="391" y="700"/>
                    </a:lnTo>
                    <a:lnTo>
                      <a:pt x="425" y="703"/>
                    </a:lnTo>
                    <a:lnTo>
                      <a:pt x="498" y="704"/>
                    </a:lnTo>
                    <a:lnTo>
                      <a:pt x="574" y="702"/>
                    </a:lnTo>
                    <a:lnTo>
                      <a:pt x="654" y="695"/>
                    </a:lnTo>
                    <a:lnTo>
                      <a:pt x="737" y="687"/>
                    </a:lnTo>
                    <a:lnTo>
                      <a:pt x="821" y="674"/>
                    </a:lnTo>
                    <a:lnTo>
                      <a:pt x="908" y="658"/>
                    </a:lnTo>
                    <a:lnTo>
                      <a:pt x="993" y="639"/>
                    </a:lnTo>
                    <a:lnTo>
                      <a:pt x="1076" y="617"/>
                    </a:lnTo>
                    <a:lnTo>
                      <a:pt x="1156" y="593"/>
                    </a:lnTo>
                    <a:lnTo>
                      <a:pt x="1193" y="580"/>
                    </a:lnTo>
                    <a:lnTo>
                      <a:pt x="1231" y="567"/>
                    </a:lnTo>
                    <a:lnTo>
                      <a:pt x="1266" y="552"/>
                    </a:lnTo>
                    <a:lnTo>
                      <a:pt x="1302" y="539"/>
                    </a:lnTo>
                    <a:lnTo>
                      <a:pt x="1335" y="524"/>
                    </a:lnTo>
                    <a:lnTo>
                      <a:pt x="1367" y="510"/>
                    </a:lnTo>
                    <a:lnTo>
                      <a:pt x="1398" y="494"/>
                    </a:lnTo>
                    <a:lnTo>
                      <a:pt x="1429" y="478"/>
                    </a:lnTo>
                    <a:lnTo>
                      <a:pt x="1458" y="463"/>
                    </a:lnTo>
                    <a:lnTo>
                      <a:pt x="1485" y="446"/>
                    </a:lnTo>
                    <a:lnTo>
                      <a:pt x="1510" y="429"/>
                    </a:lnTo>
                    <a:lnTo>
                      <a:pt x="1535" y="414"/>
                    </a:lnTo>
                    <a:lnTo>
                      <a:pt x="1557" y="397"/>
                    </a:lnTo>
                    <a:lnTo>
                      <a:pt x="1578" y="379"/>
                    </a:lnTo>
                    <a:lnTo>
                      <a:pt x="1598" y="363"/>
                    </a:lnTo>
                    <a:lnTo>
                      <a:pt x="1615" y="346"/>
                    </a:lnTo>
                    <a:lnTo>
                      <a:pt x="1631" y="329"/>
                    </a:lnTo>
                    <a:lnTo>
                      <a:pt x="1645" y="312"/>
                    </a:lnTo>
                    <a:lnTo>
                      <a:pt x="1658" y="295"/>
                    </a:lnTo>
                    <a:lnTo>
                      <a:pt x="1667" y="278"/>
                    </a:lnTo>
                    <a:lnTo>
                      <a:pt x="1677" y="261"/>
                    </a:lnTo>
                    <a:lnTo>
                      <a:pt x="1683" y="245"/>
                    </a:lnTo>
                    <a:lnTo>
                      <a:pt x="1687" y="228"/>
                    </a:lnTo>
                    <a:lnTo>
                      <a:pt x="1689" y="211"/>
                    </a:lnTo>
                    <a:lnTo>
                      <a:pt x="1689" y="195"/>
                    </a:lnTo>
                    <a:lnTo>
                      <a:pt x="1687" y="179"/>
                    </a:lnTo>
                    <a:lnTo>
                      <a:pt x="1683" y="163"/>
                    </a:lnTo>
                    <a:lnTo>
                      <a:pt x="1677" y="149"/>
                    </a:lnTo>
                    <a:lnTo>
                      <a:pt x="1667" y="134"/>
                    </a:lnTo>
                    <a:lnTo>
                      <a:pt x="1657" y="121"/>
                    </a:lnTo>
                    <a:lnTo>
                      <a:pt x="1644" y="108"/>
                    </a:lnTo>
                    <a:lnTo>
                      <a:pt x="1631" y="96"/>
                    </a:lnTo>
                    <a:lnTo>
                      <a:pt x="1614" y="84"/>
                    </a:lnTo>
                    <a:lnTo>
                      <a:pt x="1596" y="74"/>
                    </a:lnTo>
                    <a:lnTo>
                      <a:pt x="1577" y="63"/>
                    </a:lnTo>
                    <a:lnTo>
                      <a:pt x="1555" y="54"/>
                    </a:lnTo>
                    <a:lnTo>
                      <a:pt x="1532" y="46"/>
                    </a:lnTo>
                    <a:lnTo>
                      <a:pt x="1508" y="37"/>
                    </a:lnTo>
                    <a:lnTo>
                      <a:pt x="1482" y="30"/>
                    </a:lnTo>
                    <a:lnTo>
                      <a:pt x="1455" y="24"/>
                    </a:lnTo>
                    <a:lnTo>
                      <a:pt x="1426" y="19"/>
                    </a:lnTo>
                    <a:lnTo>
                      <a:pt x="1395" y="13"/>
                    </a:lnTo>
                    <a:lnTo>
                      <a:pt x="1364" y="9"/>
                    </a:lnTo>
                    <a:lnTo>
                      <a:pt x="1332" y="6"/>
                    </a:lnTo>
                    <a:lnTo>
                      <a:pt x="1298" y="3"/>
                    </a:lnTo>
                    <a:lnTo>
                      <a:pt x="1263" y="1"/>
                    </a:lnTo>
                    <a:lnTo>
                      <a:pt x="1191" y="0"/>
                    </a:lnTo>
                    <a:lnTo>
                      <a:pt x="1115" y="2"/>
                    </a:lnTo>
                    <a:lnTo>
                      <a:pt x="1035" y="8"/>
                    </a:lnTo>
                    <a:lnTo>
                      <a:pt x="952" y="16"/>
                    </a:lnTo>
                    <a:lnTo>
                      <a:pt x="868" y="30"/>
                    </a:lnTo>
                    <a:lnTo>
                      <a:pt x="782" y="4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19680" y="-1077840"/>
                <a:ext cx="49680" cy="53640"/>
              </a:xfrm>
              <a:prstGeom prst="ellipse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92320" y="-1235160"/>
                <a:ext cx="99360" cy="363600"/>
              </a:xfrm>
              <a:prstGeom prst="ellipse">
                <a:avLst/>
              </a:prstGeom>
              <a:noFill/>
              <a:ln w="158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160720" y="-1820880"/>
                <a:ext cx="111240" cy="120600"/>
                <a:chOff x="2160720" y="-1820880"/>
                <a:chExt cx="111240" cy="1206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160720" y="-182088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83760" y="-1765440"/>
                  <a:ext cx="6588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1840" y="-1019160"/>
                <a:ext cx="111240" cy="120600"/>
                <a:chOff x="1491840" y="-1019160"/>
                <a:chExt cx="111240" cy="1206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491840" y="-101916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13440" y="-965160"/>
                  <a:ext cx="67320" cy="10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701440" y="-1281240"/>
                <a:ext cx="111240" cy="119160"/>
                <a:chOff x="2701440" y="-1281240"/>
                <a:chExt cx="111240" cy="1191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701440" y="-1281240"/>
                  <a:ext cx="111240" cy="11916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723040" y="-1227240"/>
                  <a:ext cx="6732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128680" y="-1258920"/>
                <a:ext cx="109800" cy="120600"/>
                <a:chOff x="2128680" y="-1258920"/>
                <a:chExt cx="109800" cy="12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128680" y="-1258920"/>
                  <a:ext cx="10980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149200" y="-1203480"/>
                  <a:ext cx="6552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062440" y="-976320"/>
                <a:ext cx="111240" cy="120600"/>
                <a:chOff x="2062440" y="-976320"/>
                <a:chExt cx="111240" cy="1206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062440" y="-976320"/>
                  <a:ext cx="111240" cy="120600"/>
                </a:xfrm>
                <a:prstGeom prst="ellipse">
                  <a:avLst/>
                </a:prstGeom>
                <a:solidFill>
                  <a:srgbClr val="00ff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084400" y="-922320"/>
                  <a:ext cx="65520" cy="9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1664280" y="-1609920"/>
                <a:ext cx="925560" cy="1049400"/>
              </a:xfrm>
              <a:custGeom>
                <a:avLst/>
                <a:gdLst/>
                <a:ahLst/>
                <a:rect l="l" t="t" r="r" b="b"/>
                <a:pathLst>
                  <a:path w="1265" h="1324">
                    <a:moveTo>
                      <a:pt x="405" y="876"/>
                    </a:moveTo>
                    <a:lnTo>
                      <a:pt x="345" y="812"/>
                    </a:lnTo>
                    <a:lnTo>
                      <a:pt x="317" y="778"/>
                    </a:lnTo>
                    <a:lnTo>
                      <a:pt x="291" y="746"/>
                    </a:lnTo>
                    <a:lnTo>
                      <a:pt x="265" y="714"/>
                    </a:lnTo>
                    <a:lnTo>
                      <a:pt x="240" y="681"/>
                    </a:lnTo>
                    <a:lnTo>
                      <a:pt x="216" y="648"/>
                    </a:lnTo>
                    <a:lnTo>
                      <a:pt x="193" y="616"/>
                    </a:lnTo>
                    <a:lnTo>
                      <a:pt x="171" y="584"/>
                    </a:lnTo>
                    <a:lnTo>
                      <a:pt x="152" y="552"/>
                    </a:lnTo>
                    <a:lnTo>
                      <a:pt x="132" y="521"/>
                    </a:lnTo>
                    <a:lnTo>
                      <a:pt x="114" y="491"/>
                    </a:lnTo>
                    <a:lnTo>
                      <a:pt x="97" y="459"/>
                    </a:lnTo>
                    <a:lnTo>
                      <a:pt x="82" y="430"/>
                    </a:lnTo>
                    <a:lnTo>
                      <a:pt x="67" y="400"/>
                    </a:lnTo>
                    <a:lnTo>
                      <a:pt x="55" y="372"/>
                    </a:lnTo>
                    <a:lnTo>
                      <a:pt x="43" y="344"/>
                    </a:lnTo>
                    <a:lnTo>
                      <a:pt x="33" y="315"/>
                    </a:lnTo>
                    <a:lnTo>
                      <a:pt x="23" y="289"/>
                    </a:lnTo>
                    <a:lnTo>
                      <a:pt x="16" y="263"/>
                    </a:lnTo>
                    <a:lnTo>
                      <a:pt x="10" y="238"/>
                    </a:lnTo>
                    <a:lnTo>
                      <a:pt x="6" y="214"/>
                    </a:lnTo>
                    <a:lnTo>
                      <a:pt x="3" y="191"/>
                    </a:lnTo>
                    <a:lnTo>
                      <a:pt x="0" y="169"/>
                    </a:lnTo>
                    <a:lnTo>
                      <a:pt x="0" y="148"/>
                    </a:lnTo>
                    <a:lnTo>
                      <a:pt x="1" y="128"/>
                    </a:lnTo>
                    <a:lnTo>
                      <a:pt x="5" y="110"/>
                    </a:lnTo>
                    <a:lnTo>
                      <a:pt x="9" y="92"/>
                    </a:lnTo>
                    <a:lnTo>
                      <a:pt x="14" y="76"/>
                    </a:lnTo>
                    <a:lnTo>
                      <a:pt x="22" y="61"/>
                    </a:lnTo>
                    <a:lnTo>
                      <a:pt x="32" y="47"/>
                    </a:lnTo>
                    <a:lnTo>
                      <a:pt x="42" y="36"/>
                    </a:lnTo>
                    <a:lnTo>
                      <a:pt x="55" y="26"/>
                    </a:lnTo>
                    <a:lnTo>
                      <a:pt x="68" y="17"/>
                    </a:lnTo>
                    <a:lnTo>
                      <a:pt x="84" y="11"/>
                    </a:lnTo>
                    <a:lnTo>
                      <a:pt x="100" y="6"/>
                    </a:lnTo>
                    <a:lnTo>
                      <a:pt x="118" y="2"/>
                    </a:lnTo>
                    <a:lnTo>
                      <a:pt x="137" y="0"/>
                    </a:lnTo>
                    <a:lnTo>
                      <a:pt x="157" y="0"/>
                    </a:lnTo>
                    <a:lnTo>
                      <a:pt x="178" y="2"/>
                    </a:lnTo>
                    <a:lnTo>
                      <a:pt x="199" y="5"/>
                    </a:lnTo>
                    <a:lnTo>
                      <a:pt x="222" y="9"/>
                    </a:lnTo>
                    <a:lnTo>
                      <a:pt x="245" y="15"/>
                    </a:lnTo>
                    <a:lnTo>
                      <a:pt x="270" y="22"/>
                    </a:lnTo>
                    <a:lnTo>
                      <a:pt x="295" y="32"/>
                    </a:lnTo>
                    <a:lnTo>
                      <a:pt x="321" y="42"/>
                    </a:lnTo>
                    <a:lnTo>
                      <a:pt x="349" y="54"/>
                    </a:lnTo>
                    <a:lnTo>
                      <a:pt x="377" y="67"/>
                    </a:lnTo>
                    <a:lnTo>
                      <a:pt x="404" y="82"/>
                    </a:lnTo>
                    <a:lnTo>
                      <a:pt x="433" y="97"/>
                    </a:lnTo>
                    <a:lnTo>
                      <a:pt x="462" y="115"/>
                    </a:lnTo>
                    <a:lnTo>
                      <a:pt x="491" y="134"/>
                    </a:lnTo>
                    <a:lnTo>
                      <a:pt x="522" y="154"/>
                    </a:lnTo>
                    <a:lnTo>
                      <a:pt x="552" y="175"/>
                    </a:lnTo>
                    <a:lnTo>
                      <a:pt x="582" y="197"/>
                    </a:lnTo>
                    <a:lnTo>
                      <a:pt x="612" y="221"/>
                    </a:lnTo>
                    <a:lnTo>
                      <a:pt x="643" y="244"/>
                    </a:lnTo>
                    <a:lnTo>
                      <a:pt x="675" y="271"/>
                    </a:lnTo>
                    <a:lnTo>
                      <a:pt x="706" y="298"/>
                    </a:lnTo>
                    <a:lnTo>
                      <a:pt x="736" y="325"/>
                    </a:lnTo>
                    <a:lnTo>
                      <a:pt x="767" y="354"/>
                    </a:lnTo>
                    <a:lnTo>
                      <a:pt x="799" y="384"/>
                    </a:lnTo>
                    <a:lnTo>
                      <a:pt x="860" y="447"/>
                    </a:lnTo>
                    <a:lnTo>
                      <a:pt x="920" y="512"/>
                    </a:lnTo>
                    <a:lnTo>
                      <a:pt x="948" y="545"/>
                    </a:lnTo>
                    <a:lnTo>
                      <a:pt x="974" y="577"/>
                    </a:lnTo>
                    <a:lnTo>
                      <a:pt x="1000" y="610"/>
                    </a:lnTo>
                    <a:lnTo>
                      <a:pt x="1025" y="643"/>
                    </a:lnTo>
                    <a:lnTo>
                      <a:pt x="1049" y="675"/>
                    </a:lnTo>
                    <a:lnTo>
                      <a:pt x="1072" y="707"/>
                    </a:lnTo>
                    <a:lnTo>
                      <a:pt x="1094" y="740"/>
                    </a:lnTo>
                    <a:lnTo>
                      <a:pt x="1113" y="771"/>
                    </a:lnTo>
                    <a:lnTo>
                      <a:pt x="1133" y="802"/>
                    </a:lnTo>
                    <a:lnTo>
                      <a:pt x="1151" y="834"/>
                    </a:lnTo>
                    <a:lnTo>
                      <a:pt x="1168" y="864"/>
                    </a:lnTo>
                    <a:lnTo>
                      <a:pt x="1183" y="894"/>
                    </a:lnTo>
                    <a:lnTo>
                      <a:pt x="1197" y="923"/>
                    </a:lnTo>
                    <a:lnTo>
                      <a:pt x="1210" y="952"/>
                    </a:lnTo>
                    <a:lnTo>
                      <a:pt x="1222" y="981"/>
                    </a:lnTo>
                    <a:lnTo>
                      <a:pt x="1232" y="1009"/>
                    </a:lnTo>
                    <a:lnTo>
                      <a:pt x="1241" y="1035"/>
                    </a:lnTo>
                    <a:lnTo>
                      <a:pt x="1249" y="1061"/>
                    </a:lnTo>
                    <a:lnTo>
                      <a:pt x="1255" y="1086"/>
                    </a:lnTo>
                    <a:lnTo>
                      <a:pt x="1259" y="1110"/>
                    </a:lnTo>
                    <a:lnTo>
                      <a:pt x="1262" y="1133"/>
                    </a:lnTo>
                    <a:lnTo>
                      <a:pt x="1265" y="1155"/>
                    </a:lnTo>
                    <a:lnTo>
                      <a:pt x="1265" y="1176"/>
                    </a:lnTo>
                    <a:lnTo>
                      <a:pt x="1264" y="1195"/>
                    </a:lnTo>
                    <a:lnTo>
                      <a:pt x="1260" y="1214"/>
                    </a:lnTo>
                    <a:lnTo>
                      <a:pt x="1256" y="1232"/>
                    </a:lnTo>
                    <a:lnTo>
                      <a:pt x="1250" y="1248"/>
                    </a:lnTo>
                    <a:lnTo>
                      <a:pt x="1243" y="1262"/>
                    </a:lnTo>
                    <a:lnTo>
                      <a:pt x="1233" y="1276"/>
                    </a:lnTo>
                    <a:lnTo>
                      <a:pt x="1222" y="1287"/>
                    </a:lnTo>
                    <a:lnTo>
                      <a:pt x="1209" y="1298"/>
                    </a:lnTo>
                    <a:lnTo>
                      <a:pt x="1196" y="1306"/>
                    </a:lnTo>
                    <a:lnTo>
                      <a:pt x="1180" y="1313"/>
                    </a:lnTo>
                    <a:lnTo>
                      <a:pt x="1165" y="1317"/>
                    </a:lnTo>
                    <a:lnTo>
                      <a:pt x="1147" y="1322"/>
                    </a:lnTo>
                    <a:lnTo>
                      <a:pt x="1128" y="1323"/>
                    </a:lnTo>
                    <a:lnTo>
                      <a:pt x="1108" y="1324"/>
                    </a:lnTo>
                    <a:lnTo>
                      <a:pt x="1087" y="1322"/>
                    </a:lnTo>
                    <a:lnTo>
                      <a:pt x="1066" y="1318"/>
                    </a:lnTo>
                    <a:lnTo>
                      <a:pt x="1043" y="1314"/>
                    </a:lnTo>
                    <a:lnTo>
                      <a:pt x="1019" y="1308"/>
                    </a:lnTo>
                    <a:lnTo>
                      <a:pt x="995" y="1301"/>
                    </a:lnTo>
                    <a:lnTo>
                      <a:pt x="969" y="1291"/>
                    </a:lnTo>
                    <a:lnTo>
                      <a:pt x="943" y="1281"/>
                    </a:lnTo>
                    <a:lnTo>
                      <a:pt x="916" y="1269"/>
                    </a:lnTo>
                    <a:lnTo>
                      <a:pt x="888" y="1256"/>
                    </a:lnTo>
                    <a:lnTo>
                      <a:pt x="861" y="1241"/>
                    </a:lnTo>
                    <a:lnTo>
                      <a:pt x="832" y="1226"/>
                    </a:lnTo>
                    <a:lnTo>
                      <a:pt x="803" y="1208"/>
                    </a:lnTo>
                    <a:lnTo>
                      <a:pt x="774" y="1189"/>
                    </a:lnTo>
                    <a:lnTo>
                      <a:pt x="743" y="1169"/>
                    </a:lnTo>
                    <a:lnTo>
                      <a:pt x="713" y="1149"/>
                    </a:lnTo>
                    <a:lnTo>
                      <a:pt x="683" y="1127"/>
                    </a:lnTo>
                    <a:lnTo>
                      <a:pt x="653" y="1103"/>
                    </a:lnTo>
                    <a:lnTo>
                      <a:pt x="622" y="1079"/>
                    </a:lnTo>
                    <a:lnTo>
                      <a:pt x="590" y="1053"/>
                    </a:lnTo>
                    <a:lnTo>
                      <a:pt x="560" y="1025"/>
                    </a:lnTo>
                    <a:lnTo>
                      <a:pt x="529" y="998"/>
                    </a:lnTo>
                    <a:lnTo>
                      <a:pt x="498" y="969"/>
                    </a:lnTo>
                    <a:lnTo>
                      <a:pt x="466" y="939"/>
                    </a:lnTo>
                    <a:lnTo>
                      <a:pt x="405" y="87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028880" y="-2801880"/>
              <a:ext cx="1218600" cy="1369800"/>
              <a:chOff x="1028880" y="-2801880"/>
              <a:chExt cx="1218600" cy="136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1216440" y="-2705040"/>
                <a:ext cx="841680" cy="1130040"/>
              </a:xfrm>
              <a:custGeom>
                <a:avLst/>
                <a:gdLst/>
                <a:ahLst/>
                <a:rect l="l" t="t" r="r" b="b"/>
                <a:pathLst>
                  <a:path w="1151" h="1423">
                    <a:moveTo>
                      <a:pt x="825" y="900"/>
                    </a:moveTo>
                    <a:lnTo>
                      <a:pt x="877" y="829"/>
                    </a:lnTo>
                    <a:lnTo>
                      <a:pt x="925" y="758"/>
                    </a:lnTo>
                    <a:lnTo>
                      <a:pt x="946" y="722"/>
                    </a:lnTo>
                    <a:lnTo>
                      <a:pt x="967" y="687"/>
                    </a:lnTo>
                    <a:lnTo>
                      <a:pt x="988" y="653"/>
                    </a:lnTo>
                    <a:lnTo>
                      <a:pt x="1007" y="617"/>
                    </a:lnTo>
                    <a:lnTo>
                      <a:pt x="1025" y="584"/>
                    </a:lnTo>
                    <a:lnTo>
                      <a:pt x="1042" y="549"/>
                    </a:lnTo>
                    <a:lnTo>
                      <a:pt x="1058" y="516"/>
                    </a:lnTo>
                    <a:lnTo>
                      <a:pt x="1073" y="484"/>
                    </a:lnTo>
                    <a:lnTo>
                      <a:pt x="1085" y="451"/>
                    </a:lnTo>
                    <a:lnTo>
                      <a:pt x="1098" y="420"/>
                    </a:lnTo>
                    <a:lnTo>
                      <a:pt x="1109" y="389"/>
                    </a:lnTo>
                    <a:lnTo>
                      <a:pt x="1118" y="360"/>
                    </a:lnTo>
                    <a:lnTo>
                      <a:pt x="1127" y="329"/>
                    </a:lnTo>
                    <a:lnTo>
                      <a:pt x="1134" y="301"/>
                    </a:lnTo>
                    <a:lnTo>
                      <a:pt x="1140" y="274"/>
                    </a:lnTo>
                    <a:lnTo>
                      <a:pt x="1144" y="247"/>
                    </a:lnTo>
                    <a:lnTo>
                      <a:pt x="1149" y="222"/>
                    </a:lnTo>
                    <a:lnTo>
                      <a:pt x="1151" y="198"/>
                    </a:lnTo>
                    <a:lnTo>
                      <a:pt x="1151" y="174"/>
                    </a:lnTo>
                    <a:lnTo>
                      <a:pt x="1151" y="152"/>
                    </a:lnTo>
                    <a:lnTo>
                      <a:pt x="1149" y="131"/>
                    </a:lnTo>
                    <a:lnTo>
                      <a:pt x="1144" y="111"/>
                    </a:lnTo>
                    <a:lnTo>
                      <a:pt x="1139" y="94"/>
                    </a:lnTo>
                    <a:lnTo>
                      <a:pt x="1133" y="77"/>
                    </a:lnTo>
                    <a:lnTo>
                      <a:pt x="1126" y="61"/>
                    </a:lnTo>
                    <a:lnTo>
                      <a:pt x="1116" y="48"/>
                    </a:lnTo>
                    <a:lnTo>
                      <a:pt x="1106" y="35"/>
                    </a:lnTo>
                    <a:lnTo>
                      <a:pt x="1093" y="25"/>
                    </a:lnTo>
                    <a:lnTo>
                      <a:pt x="1080" y="17"/>
                    </a:lnTo>
                    <a:lnTo>
                      <a:pt x="1065" y="9"/>
                    </a:lnTo>
                    <a:lnTo>
                      <a:pt x="1050" y="4"/>
                    </a:lnTo>
                    <a:lnTo>
                      <a:pt x="1033" y="1"/>
                    </a:lnTo>
                    <a:lnTo>
                      <a:pt x="1015" y="0"/>
                    </a:lnTo>
                    <a:lnTo>
                      <a:pt x="996" y="0"/>
                    </a:lnTo>
                    <a:lnTo>
                      <a:pt x="977" y="2"/>
                    </a:lnTo>
                    <a:lnTo>
                      <a:pt x="956" y="5"/>
                    </a:lnTo>
                    <a:lnTo>
                      <a:pt x="934" y="10"/>
                    </a:lnTo>
                    <a:lnTo>
                      <a:pt x="912" y="18"/>
                    </a:lnTo>
                    <a:lnTo>
                      <a:pt x="889" y="27"/>
                    </a:lnTo>
                    <a:lnTo>
                      <a:pt x="865" y="36"/>
                    </a:lnTo>
                    <a:lnTo>
                      <a:pt x="841" y="49"/>
                    </a:lnTo>
                    <a:lnTo>
                      <a:pt x="816" y="61"/>
                    </a:lnTo>
                    <a:lnTo>
                      <a:pt x="791" y="76"/>
                    </a:lnTo>
                    <a:lnTo>
                      <a:pt x="765" y="93"/>
                    </a:lnTo>
                    <a:lnTo>
                      <a:pt x="739" y="110"/>
                    </a:lnTo>
                    <a:lnTo>
                      <a:pt x="713" y="129"/>
                    </a:lnTo>
                    <a:lnTo>
                      <a:pt x="686" y="149"/>
                    </a:lnTo>
                    <a:lnTo>
                      <a:pt x="659" y="171"/>
                    </a:lnTo>
                    <a:lnTo>
                      <a:pt x="631" y="194"/>
                    </a:lnTo>
                    <a:lnTo>
                      <a:pt x="604" y="218"/>
                    </a:lnTo>
                    <a:lnTo>
                      <a:pt x="575" y="244"/>
                    </a:lnTo>
                    <a:lnTo>
                      <a:pt x="547" y="270"/>
                    </a:lnTo>
                    <a:lnTo>
                      <a:pt x="519" y="298"/>
                    </a:lnTo>
                    <a:lnTo>
                      <a:pt x="491" y="327"/>
                    </a:lnTo>
                    <a:lnTo>
                      <a:pt x="464" y="356"/>
                    </a:lnTo>
                    <a:lnTo>
                      <a:pt x="436" y="388"/>
                    </a:lnTo>
                    <a:lnTo>
                      <a:pt x="381" y="453"/>
                    </a:lnTo>
                    <a:lnTo>
                      <a:pt x="326" y="522"/>
                    </a:lnTo>
                    <a:lnTo>
                      <a:pt x="274" y="593"/>
                    </a:lnTo>
                    <a:lnTo>
                      <a:pt x="227" y="664"/>
                    </a:lnTo>
                    <a:lnTo>
                      <a:pt x="204" y="700"/>
                    </a:lnTo>
                    <a:lnTo>
                      <a:pt x="184" y="735"/>
                    </a:lnTo>
                    <a:lnTo>
                      <a:pt x="163" y="769"/>
                    </a:lnTo>
                    <a:lnTo>
                      <a:pt x="144" y="805"/>
                    </a:lnTo>
                    <a:lnTo>
                      <a:pt x="126" y="838"/>
                    </a:lnTo>
                    <a:lnTo>
                      <a:pt x="110" y="873"/>
                    </a:lnTo>
                    <a:lnTo>
                      <a:pt x="93" y="906"/>
                    </a:lnTo>
                    <a:lnTo>
                      <a:pt x="78" y="938"/>
                    </a:lnTo>
                    <a:lnTo>
                      <a:pt x="66" y="971"/>
                    </a:lnTo>
                    <a:lnTo>
                      <a:pt x="53" y="1002"/>
                    </a:lnTo>
                    <a:lnTo>
                      <a:pt x="42" y="1033"/>
                    </a:lnTo>
                    <a:lnTo>
                      <a:pt x="32" y="1063"/>
                    </a:lnTo>
                    <a:lnTo>
                      <a:pt x="24" y="1093"/>
                    </a:lnTo>
                    <a:lnTo>
                      <a:pt x="17" y="1121"/>
                    </a:lnTo>
                    <a:lnTo>
                      <a:pt x="11" y="1148"/>
                    </a:lnTo>
                    <a:lnTo>
                      <a:pt x="5" y="1175"/>
                    </a:lnTo>
                    <a:lnTo>
                      <a:pt x="2" y="1200"/>
                    </a:lnTo>
                    <a:lnTo>
                      <a:pt x="0" y="1224"/>
                    </a:lnTo>
                    <a:lnTo>
                      <a:pt x="0" y="1248"/>
                    </a:lnTo>
                    <a:lnTo>
                      <a:pt x="0" y="1270"/>
                    </a:lnTo>
                    <a:lnTo>
                      <a:pt x="2" y="1291"/>
                    </a:lnTo>
                    <a:lnTo>
                      <a:pt x="5" y="1311"/>
                    </a:lnTo>
                    <a:lnTo>
                      <a:pt x="11" y="1328"/>
                    </a:lnTo>
                    <a:lnTo>
                      <a:pt x="17" y="1345"/>
                    </a:lnTo>
                    <a:lnTo>
                      <a:pt x="24" y="1361"/>
                    </a:lnTo>
                    <a:lnTo>
                      <a:pt x="34" y="1374"/>
                    </a:lnTo>
                    <a:lnTo>
                      <a:pt x="44" y="1387"/>
                    </a:lnTo>
                    <a:lnTo>
                      <a:pt x="56" y="1397"/>
                    </a:lnTo>
                    <a:lnTo>
                      <a:pt x="70" y="1405"/>
                    </a:lnTo>
                    <a:lnTo>
                      <a:pt x="85" y="1413"/>
                    </a:lnTo>
                    <a:lnTo>
                      <a:pt x="100" y="1418"/>
                    </a:lnTo>
                    <a:lnTo>
                      <a:pt x="118" y="1421"/>
                    </a:lnTo>
                    <a:lnTo>
                      <a:pt x="136" y="1423"/>
                    </a:lnTo>
                    <a:lnTo>
                      <a:pt x="154" y="1422"/>
                    </a:lnTo>
                    <a:lnTo>
                      <a:pt x="174" y="1420"/>
                    </a:lnTo>
                    <a:lnTo>
                      <a:pt x="195" y="1417"/>
                    </a:lnTo>
                    <a:lnTo>
                      <a:pt x="216" y="1412"/>
                    </a:lnTo>
                    <a:lnTo>
                      <a:pt x="239" y="1404"/>
                    </a:lnTo>
                    <a:lnTo>
                      <a:pt x="262" y="1396"/>
                    </a:lnTo>
                    <a:lnTo>
                      <a:pt x="285" y="1386"/>
                    </a:lnTo>
                    <a:lnTo>
                      <a:pt x="309" y="1374"/>
                    </a:lnTo>
                    <a:lnTo>
                      <a:pt x="334" y="1361"/>
                    </a:lnTo>
                    <a:lnTo>
                      <a:pt x="360" y="1346"/>
                    </a:lnTo>
                    <a:lnTo>
                      <a:pt x="385" y="1329"/>
                    </a:lnTo>
                    <a:lnTo>
                      <a:pt x="411" y="1312"/>
                    </a:lnTo>
                    <a:lnTo>
                      <a:pt x="438" y="1293"/>
                    </a:lnTo>
                    <a:lnTo>
                      <a:pt x="465" y="1273"/>
                    </a:lnTo>
                    <a:lnTo>
                      <a:pt x="492" y="1251"/>
                    </a:lnTo>
                    <a:lnTo>
                      <a:pt x="519" y="1228"/>
                    </a:lnTo>
                    <a:lnTo>
                      <a:pt x="547" y="1204"/>
                    </a:lnTo>
                    <a:lnTo>
                      <a:pt x="575" y="1178"/>
                    </a:lnTo>
                    <a:lnTo>
                      <a:pt x="604" y="1152"/>
                    </a:lnTo>
                    <a:lnTo>
                      <a:pt x="631" y="1124"/>
                    </a:lnTo>
                    <a:lnTo>
                      <a:pt x="659" y="1095"/>
                    </a:lnTo>
                    <a:lnTo>
                      <a:pt x="687" y="1066"/>
                    </a:lnTo>
                    <a:lnTo>
                      <a:pt x="715" y="1034"/>
                    </a:lnTo>
                    <a:lnTo>
                      <a:pt x="770" y="969"/>
                    </a:lnTo>
                    <a:lnTo>
                      <a:pt x="825" y="900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028880" y="-2442960"/>
                <a:ext cx="1218600" cy="605880"/>
              </a:xfrm>
              <a:custGeom>
                <a:avLst/>
                <a:gdLst/>
                <a:ahLst/>
                <a:rect l="l" t="t" r="r" b="b"/>
                <a:pathLst>
                  <a:path w="1662" h="765">
                    <a:moveTo>
                      <a:pt x="916" y="82"/>
                    </a:moveTo>
                    <a:lnTo>
                      <a:pt x="831" y="59"/>
                    </a:lnTo>
                    <a:lnTo>
                      <a:pt x="748" y="40"/>
                    </a:lnTo>
                    <a:lnTo>
                      <a:pt x="666" y="25"/>
                    </a:lnTo>
                    <a:lnTo>
                      <a:pt x="588" y="14"/>
                    </a:lnTo>
                    <a:lnTo>
                      <a:pt x="512" y="6"/>
                    </a:lnTo>
                    <a:lnTo>
                      <a:pt x="440" y="1"/>
                    </a:lnTo>
                    <a:lnTo>
                      <a:pt x="404" y="0"/>
                    </a:lnTo>
                    <a:lnTo>
                      <a:pt x="371" y="0"/>
                    </a:lnTo>
                    <a:lnTo>
                      <a:pt x="337" y="1"/>
                    </a:lnTo>
                    <a:lnTo>
                      <a:pt x="306" y="4"/>
                    </a:lnTo>
                    <a:lnTo>
                      <a:pt x="276" y="7"/>
                    </a:lnTo>
                    <a:lnTo>
                      <a:pt x="247" y="10"/>
                    </a:lnTo>
                    <a:lnTo>
                      <a:pt x="219" y="14"/>
                    </a:lnTo>
                    <a:lnTo>
                      <a:pt x="193" y="19"/>
                    </a:lnTo>
                    <a:lnTo>
                      <a:pt x="168" y="25"/>
                    </a:lnTo>
                    <a:lnTo>
                      <a:pt x="145" y="33"/>
                    </a:lnTo>
                    <a:lnTo>
                      <a:pt x="123" y="40"/>
                    </a:lnTo>
                    <a:lnTo>
                      <a:pt x="102" y="49"/>
                    </a:lnTo>
                    <a:lnTo>
                      <a:pt x="83" y="59"/>
                    </a:lnTo>
                    <a:lnTo>
                      <a:pt x="67" y="68"/>
                    </a:lnTo>
                    <a:lnTo>
                      <a:pt x="51" y="80"/>
                    </a:lnTo>
                    <a:lnTo>
                      <a:pt x="38" y="92"/>
                    </a:lnTo>
                    <a:lnTo>
                      <a:pt x="27" y="105"/>
                    </a:lnTo>
                    <a:lnTo>
                      <a:pt x="17" y="118"/>
                    </a:lnTo>
                    <a:lnTo>
                      <a:pt x="9" y="133"/>
                    </a:lnTo>
                    <a:lnTo>
                      <a:pt x="4" y="147"/>
                    </a:lnTo>
                    <a:lnTo>
                      <a:pt x="1" y="16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3" y="213"/>
                    </a:lnTo>
                    <a:lnTo>
                      <a:pt x="8" y="230"/>
                    </a:lnTo>
                    <a:lnTo>
                      <a:pt x="15" y="248"/>
                    </a:lnTo>
                    <a:lnTo>
                      <a:pt x="25" y="265"/>
                    </a:lnTo>
                    <a:lnTo>
                      <a:pt x="35" y="283"/>
                    </a:lnTo>
                    <a:lnTo>
                      <a:pt x="48" y="301"/>
                    </a:lnTo>
                    <a:lnTo>
                      <a:pt x="62" y="319"/>
                    </a:lnTo>
                    <a:lnTo>
                      <a:pt x="79" y="337"/>
                    </a:lnTo>
                    <a:lnTo>
                      <a:pt x="97" y="356"/>
                    </a:lnTo>
                    <a:lnTo>
                      <a:pt x="117" y="374"/>
                    </a:lnTo>
                    <a:lnTo>
                      <a:pt x="138" y="392"/>
                    </a:lnTo>
                    <a:lnTo>
                      <a:pt x="161" y="410"/>
                    </a:lnTo>
                    <a:lnTo>
                      <a:pt x="185" y="429"/>
                    </a:lnTo>
                    <a:lnTo>
                      <a:pt x="211" y="447"/>
                    </a:lnTo>
                    <a:lnTo>
                      <a:pt x="238" y="464"/>
                    </a:lnTo>
                    <a:lnTo>
                      <a:pt x="268" y="483"/>
                    </a:lnTo>
                    <a:lnTo>
                      <a:pt x="297" y="500"/>
                    </a:lnTo>
                    <a:lnTo>
                      <a:pt x="329" y="518"/>
                    </a:lnTo>
                    <a:lnTo>
                      <a:pt x="361" y="534"/>
                    </a:lnTo>
                    <a:lnTo>
                      <a:pt x="395" y="552"/>
                    </a:lnTo>
                    <a:lnTo>
                      <a:pt x="430" y="568"/>
                    </a:lnTo>
                    <a:lnTo>
                      <a:pt x="466" y="584"/>
                    </a:lnTo>
                    <a:lnTo>
                      <a:pt x="503" y="600"/>
                    </a:lnTo>
                    <a:lnTo>
                      <a:pt x="580" y="630"/>
                    </a:lnTo>
                    <a:lnTo>
                      <a:pt x="661" y="657"/>
                    </a:lnTo>
                    <a:lnTo>
                      <a:pt x="745" y="683"/>
                    </a:lnTo>
                    <a:lnTo>
                      <a:pt x="830" y="706"/>
                    </a:lnTo>
                    <a:lnTo>
                      <a:pt x="914" y="725"/>
                    </a:lnTo>
                    <a:lnTo>
                      <a:pt x="995" y="740"/>
                    </a:lnTo>
                    <a:lnTo>
                      <a:pt x="1074" y="751"/>
                    </a:lnTo>
                    <a:lnTo>
                      <a:pt x="1150" y="759"/>
                    </a:lnTo>
                    <a:lnTo>
                      <a:pt x="1222" y="764"/>
                    </a:lnTo>
                    <a:lnTo>
                      <a:pt x="1258" y="765"/>
                    </a:lnTo>
                    <a:lnTo>
                      <a:pt x="1291" y="765"/>
                    </a:lnTo>
                    <a:lnTo>
                      <a:pt x="1323" y="764"/>
                    </a:lnTo>
                    <a:lnTo>
                      <a:pt x="1356" y="762"/>
                    </a:lnTo>
                    <a:lnTo>
                      <a:pt x="1386" y="758"/>
                    </a:lnTo>
                    <a:lnTo>
                      <a:pt x="1415" y="755"/>
                    </a:lnTo>
                    <a:lnTo>
                      <a:pt x="1442" y="751"/>
                    </a:lnTo>
                    <a:lnTo>
                      <a:pt x="1469" y="746"/>
                    </a:lnTo>
                    <a:lnTo>
                      <a:pt x="1494" y="740"/>
                    </a:lnTo>
                    <a:lnTo>
                      <a:pt x="1517" y="732"/>
                    </a:lnTo>
                    <a:lnTo>
                      <a:pt x="1539" y="725"/>
                    </a:lnTo>
                    <a:lnTo>
                      <a:pt x="1560" y="717"/>
                    </a:lnTo>
                    <a:lnTo>
                      <a:pt x="1579" y="706"/>
                    </a:lnTo>
                    <a:lnTo>
                      <a:pt x="1595" y="697"/>
                    </a:lnTo>
                    <a:lnTo>
                      <a:pt x="1611" y="685"/>
                    </a:lnTo>
                    <a:lnTo>
                      <a:pt x="1624" y="674"/>
                    </a:lnTo>
                    <a:lnTo>
                      <a:pt x="1635" y="660"/>
                    </a:lnTo>
                    <a:lnTo>
                      <a:pt x="1645" y="647"/>
                    </a:lnTo>
                    <a:lnTo>
                      <a:pt x="1653" y="633"/>
                    </a:lnTo>
                    <a:lnTo>
                      <a:pt x="1658" y="618"/>
                    </a:lnTo>
                    <a:lnTo>
                      <a:pt x="1661" y="602"/>
                    </a:lnTo>
                    <a:lnTo>
                      <a:pt x="1662" y="585"/>
                    </a:lnTo>
                    <a:lnTo>
                      <a:pt x="1661" y="569"/>
                    </a:lnTo>
                    <a:lnTo>
                      <a:pt x="1658" y="552"/>
                    </a:lnTo>
                    <a:lnTo>
                      <a:pt x="1653" y="535"/>
                    </a:lnTo>
                    <a:lnTo>
                      <a:pt x="1646" y="518"/>
                    </a:lnTo>
                    <a:lnTo>
                      <a:pt x="1637" y="500"/>
                    </a:lnTo>
                    <a:lnTo>
                      <a:pt x="1627" y="482"/>
                    </a:lnTo>
                    <a:lnTo>
                      <a:pt x="1613" y="463"/>
                    </a:lnTo>
                    <a:lnTo>
                      <a:pt x="1599" y="446"/>
                    </a:lnTo>
                    <a:lnTo>
                      <a:pt x="1583" y="427"/>
                    </a:lnTo>
                    <a:lnTo>
                      <a:pt x="1564" y="409"/>
                    </a:lnTo>
                    <a:lnTo>
                      <a:pt x="1544" y="390"/>
                    </a:lnTo>
                    <a:lnTo>
                      <a:pt x="1523" y="373"/>
                    </a:lnTo>
                    <a:lnTo>
                      <a:pt x="1501" y="354"/>
                    </a:lnTo>
                    <a:lnTo>
                      <a:pt x="1477" y="336"/>
                    </a:lnTo>
                    <a:lnTo>
                      <a:pt x="1451" y="317"/>
                    </a:lnTo>
                    <a:lnTo>
                      <a:pt x="1422" y="300"/>
                    </a:lnTo>
                    <a:lnTo>
                      <a:pt x="1394" y="282"/>
                    </a:lnTo>
                    <a:lnTo>
                      <a:pt x="1364" y="264"/>
                    </a:lnTo>
                    <a:lnTo>
                      <a:pt x="1333" y="246"/>
                    </a:lnTo>
                    <a:lnTo>
                      <a:pt x="1300" y="230"/>
                    </a:lnTo>
                    <a:lnTo>
                      <a:pt x="1266" y="213"/>
                    </a:lnTo>
                    <a:lnTo>
                      <a:pt x="1232" y="196"/>
                    </a:lnTo>
                    <a:lnTo>
                      <a:pt x="1195" y="181"/>
                    </a:lnTo>
                    <a:lnTo>
                      <a:pt x="1159" y="165"/>
                    </a:lnTo>
                    <a:lnTo>
                      <a:pt x="1082" y="135"/>
                    </a:lnTo>
                    <a:lnTo>
                      <a:pt x="1000" y="107"/>
                    </a:lnTo>
                    <a:lnTo>
                      <a:pt x="916" y="82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95520" y="-2128680"/>
                <a:ext cx="46800" cy="5040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18" y="61"/>
                    </a:moveTo>
                    <a:lnTo>
                      <a:pt x="13" y="58"/>
                    </a:lnTo>
                    <a:lnTo>
                      <a:pt x="7" y="53"/>
                    </a:lnTo>
                    <a:lnTo>
                      <a:pt x="3" y="48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6"/>
                    </a:lnTo>
                    <a:lnTo>
                      <a:pt x="7" y="11"/>
                    </a:lnTo>
                    <a:lnTo>
                      <a:pt x="12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48" y="3"/>
                    </a:lnTo>
                    <a:lnTo>
                      <a:pt x="54" y="7"/>
                    </a:lnTo>
                    <a:lnTo>
                      <a:pt x="58" y="11"/>
                    </a:lnTo>
                    <a:lnTo>
                      <a:pt x="63" y="16"/>
                    </a:lnTo>
                    <a:lnTo>
                      <a:pt x="65" y="23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5" y="41"/>
                    </a:lnTo>
                    <a:lnTo>
                      <a:pt x="63" y="48"/>
                    </a:lnTo>
                    <a:lnTo>
                      <a:pt x="59" y="53"/>
                    </a:lnTo>
                    <a:lnTo>
                      <a:pt x="54" y="58"/>
                    </a:lnTo>
                    <a:lnTo>
                      <a:pt x="49" y="61"/>
                    </a:lnTo>
                    <a:lnTo>
                      <a:pt x="43" y="63"/>
                    </a:lnTo>
                    <a:lnTo>
                      <a:pt x="37" y="64"/>
                    </a:lnTo>
                    <a:lnTo>
                      <a:pt x="30" y="64"/>
                    </a:lnTo>
                    <a:lnTo>
                      <a:pt x="24" y="63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337760" y="-2801880"/>
                <a:ext cx="559080" cy="1318680"/>
              </a:xfrm>
              <a:custGeom>
                <a:avLst/>
                <a:gdLst/>
                <a:ahLst/>
                <a:rect l="l" t="t" r="r" b="b"/>
                <a:pathLst>
                  <a:path w="764" h="1663">
                    <a:moveTo>
                      <a:pt x="81" y="917"/>
                    </a:moveTo>
                    <a:lnTo>
                      <a:pt x="58" y="832"/>
                    </a:lnTo>
                    <a:lnTo>
                      <a:pt x="39" y="749"/>
                    </a:lnTo>
                    <a:lnTo>
                      <a:pt x="25" y="667"/>
                    </a:lnTo>
                    <a:lnTo>
                      <a:pt x="13" y="588"/>
                    </a:lnTo>
                    <a:lnTo>
                      <a:pt x="5" y="512"/>
                    </a:lnTo>
                    <a:lnTo>
                      <a:pt x="1" y="440"/>
                    </a:lnTo>
                    <a:lnTo>
                      <a:pt x="0" y="404"/>
                    </a:lnTo>
                    <a:lnTo>
                      <a:pt x="0" y="371"/>
                    </a:lnTo>
                    <a:lnTo>
                      <a:pt x="1" y="339"/>
                    </a:lnTo>
                    <a:lnTo>
                      <a:pt x="3" y="306"/>
                    </a:lnTo>
                    <a:lnTo>
                      <a:pt x="5" y="276"/>
                    </a:lnTo>
                    <a:lnTo>
                      <a:pt x="9" y="247"/>
                    </a:lnTo>
                    <a:lnTo>
                      <a:pt x="13" y="220"/>
                    </a:lnTo>
                    <a:lnTo>
                      <a:pt x="19" y="193"/>
                    </a:lnTo>
                    <a:lnTo>
                      <a:pt x="25" y="168"/>
                    </a:lnTo>
                    <a:lnTo>
                      <a:pt x="31" y="145"/>
                    </a:lnTo>
                    <a:lnTo>
                      <a:pt x="39" y="123"/>
                    </a:lnTo>
                    <a:lnTo>
                      <a:pt x="48" y="102"/>
                    </a:lnTo>
                    <a:lnTo>
                      <a:pt x="57" y="83"/>
                    </a:lnTo>
                    <a:lnTo>
                      <a:pt x="68" y="67"/>
                    </a:lnTo>
                    <a:lnTo>
                      <a:pt x="79" y="51"/>
                    </a:lnTo>
                    <a:lnTo>
                      <a:pt x="91" y="38"/>
                    </a:lnTo>
                    <a:lnTo>
                      <a:pt x="104" y="27"/>
                    </a:lnTo>
                    <a:lnTo>
                      <a:pt x="118" y="17"/>
                    </a:lnTo>
                    <a:lnTo>
                      <a:pt x="131" y="9"/>
                    </a:lnTo>
                    <a:lnTo>
                      <a:pt x="147" y="4"/>
                    </a:lnTo>
                    <a:lnTo>
                      <a:pt x="162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12" y="4"/>
                    </a:lnTo>
                    <a:lnTo>
                      <a:pt x="229" y="9"/>
                    </a:lnTo>
                    <a:lnTo>
                      <a:pt x="247" y="15"/>
                    </a:lnTo>
                    <a:lnTo>
                      <a:pt x="265" y="25"/>
                    </a:lnTo>
                    <a:lnTo>
                      <a:pt x="282" y="36"/>
                    </a:lnTo>
                    <a:lnTo>
                      <a:pt x="300" y="49"/>
                    </a:lnTo>
                    <a:lnTo>
                      <a:pt x="319" y="63"/>
                    </a:lnTo>
                    <a:lnTo>
                      <a:pt x="336" y="79"/>
                    </a:lnTo>
                    <a:lnTo>
                      <a:pt x="355" y="98"/>
                    </a:lnTo>
                    <a:lnTo>
                      <a:pt x="373" y="118"/>
                    </a:lnTo>
                    <a:lnTo>
                      <a:pt x="392" y="139"/>
                    </a:lnTo>
                    <a:lnTo>
                      <a:pt x="409" y="161"/>
                    </a:lnTo>
                    <a:lnTo>
                      <a:pt x="428" y="185"/>
                    </a:lnTo>
                    <a:lnTo>
                      <a:pt x="446" y="212"/>
                    </a:lnTo>
                    <a:lnTo>
                      <a:pt x="464" y="239"/>
                    </a:lnTo>
                    <a:lnTo>
                      <a:pt x="482" y="268"/>
                    </a:lnTo>
                    <a:lnTo>
                      <a:pt x="499" y="298"/>
                    </a:lnTo>
                    <a:lnTo>
                      <a:pt x="517" y="329"/>
                    </a:lnTo>
                    <a:lnTo>
                      <a:pt x="533" y="362"/>
                    </a:lnTo>
                    <a:lnTo>
                      <a:pt x="551" y="395"/>
                    </a:lnTo>
                    <a:lnTo>
                      <a:pt x="567" y="430"/>
                    </a:lnTo>
                    <a:lnTo>
                      <a:pt x="583" y="466"/>
                    </a:lnTo>
                    <a:lnTo>
                      <a:pt x="599" y="503"/>
                    </a:lnTo>
                    <a:lnTo>
                      <a:pt x="629" y="581"/>
                    </a:lnTo>
                    <a:lnTo>
                      <a:pt x="656" y="661"/>
                    </a:lnTo>
                    <a:lnTo>
                      <a:pt x="682" y="745"/>
                    </a:lnTo>
                    <a:lnTo>
                      <a:pt x="705" y="831"/>
                    </a:lnTo>
                    <a:lnTo>
                      <a:pt x="724" y="914"/>
                    </a:lnTo>
                    <a:lnTo>
                      <a:pt x="739" y="996"/>
                    </a:lnTo>
                    <a:lnTo>
                      <a:pt x="750" y="1075"/>
                    </a:lnTo>
                    <a:lnTo>
                      <a:pt x="759" y="1151"/>
                    </a:lnTo>
                    <a:lnTo>
                      <a:pt x="763" y="1223"/>
                    </a:lnTo>
                    <a:lnTo>
                      <a:pt x="764" y="1258"/>
                    </a:lnTo>
                    <a:lnTo>
                      <a:pt x="764" y="1292"/>
                    </a:lnTo>
                    <a:lnTo>
                      <a:pt x="763" y="1324"/>
                    </a:lnTo>
                    <a:lnTo>
                      <a:pt x="762" y="1356"/>
                    </a:lnTo>
                    <a:lnTo>
                      <a:pt x="759" y="1387"/>
                    </a:lnTo>
                    <a:lnTo>
                      <a:pt x="755" y="1416"/>
                    </a:lnTo>
                    <a:lnTo>
                      <a:pt x="750" y="1443"/>
                    </a:lnTo>
                    <a:lnTo>
                      <a:pt x="745" y="1470"/>
                    </a:lnTo>
                    <a:lnTo>
                      <a:pt x="740" y="1495"/>
                    </a:lnTo>
                    <a:lnTo>
                      <a:pt x="733" y="1518"/>
                    </a:lnTo>
                    <a:lnTo>
                      <a:pt x="725" y="1540"/>
                    </a:lnTo>
                    <a:lnTo>
                      <a:pt x="716" y="1561"/>
                    </a:lnTo>
                    <a:lnTo>
                      <a:pt x="706" y="1580"/>
                    </a:lnTo>
                    <a:lnTo>
                      <a:pt x="697" y="1596"/>
                    </a:lnTo>
                    <a:lnTo>
                      <a:pt x="686" y="1612"/>
                    </a:lnTo>
                    <a:lnTo>
                      <a:pt x="673" y="1624"/>
                    </a:lnTo>
                    <a:lnTo>
                      <a:pt x="661" y="1636"/>
                    </a:lnTo>
                    <a:lnTo>
                      <a:pt x="647" y="1646"/>
                    </a:lnTo>
                    <a:lnTo>
                      <a:pt x="633" y="1654"/>
                    </a:lnTo>
                    <a:lnTo>
                      <a:pt x="618" y="1659"/>
                    </a:lnTo>
                    <a:lnTo>
                      <a:pt x="602" y="1662"/>
                    </a:lnTo>
                    <a:lnTo>
                      <a:pt x="586" y="1663"/>
                    </a:lnTo>
                    <a:lnTo>
                      <a:pt x="569" y="1662"/>
                    </a:lnTo>
                    <a:lnTo>
                      <a:pt x="552" y="1659"/>
                    </a:lnTo>
                    <a:lnTo>
                      <a:pt x="536" y="1654"/>
                    </a:lnTo>
                    <a:lnTo>
                      <a:pt x="518" y="1647"/>
                    </a:lnTo>
                    <a:lnTo>
                      <a:pt x="500" y="1638"/>
                    </a:lnTo>
                    <a:lnTo>
                      <a:pt x="482" y="1628"/>
                    </a:lnTo>
                    <a:lnTo>
                      <a:pt x="464" y="1614"/>
                    </a:lnTo>
                    <a:lnTo>
                      <a:pt x="446" y="1599"/>
                    </a:lnTo>
                    <a:lnTo>
                      <a:pt x="427" y="1584"/>
                    </a:lnTo>
                    <a:lnTo>
                      <a:pt x="409" y="1565"/>
                    </a:lnTo>
                    <a:lnTo>
                      <a:pt x="391" y="1545"/>
                    </a:lnTo>
                    <a:lnTo>
                      <a:pt x="372" y="1524"/>
                    </a:lnTo>
                    <a:lnTo>
                      <a:pt x="354" y="1501"/>
                    </a:lnTo>
                    <a:lnTo>
                      <a:pt x="335" y="1477"/>
                    </a:lnTo>
                    <a:lnTo>
                      <a:pt x="318" y="1451"/>
                    </a:lnTo>
                    <a:lnTo>
                      <a:pt x="300" y="1424"/>
                    </a:lnTo>
                    <a:lnTo>
                      <a:pt x="282" y="1395"/>
                    </a:lnTo>
                    <a:lnTo>
                      <a:pt x="265" y="1365"/>
                    </a:lnTo>
                    <a:lnTo>
                      <a:pt x="247" y="1333"/>
                    </a:lnTo>
                    <a:lnTo>
                      <a:pt x="230" y="1301"/>
                    </a:lnTo>
                    <a:lnTo>
                      <a:pt x="214" y="1268"/>
                    </a:lnTo>
                    <a:lnTo>
                      <a:pt x="197" y="1232"/>
                    </a:lnTo>
                    <a:lnTo>
                      <a:pt x="180" y="1197"/>
                    </a:lnTo>
                    <a:lnTo>
                      <a:pt x="165" y="1159"/>
                    </a:lnTo>
                    <a:lnTo>
                      <a:pt x="134" y="1082"/>
                    </a:lnTo>
                    <a:lnTo>
                      <a:pt x="107" y="1002"/>
                    </a:lnTo>
                    <a:lnTo>
                      <a:pt x="81" y="917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27640" y="-1550880"/>
                <a:ext cx="109800" cy="118800"/>
                <a:chOff x="1727640" y="-1550880"/>
                <a:chExt cx="109800" cy="1188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727640" y="-1550880"/>
                  <a:ext cx="109800" cy="118800"/>
                </a:xfrm>
                <a:custGeom>
                  <a:avLst/>
                  <a:gdLst/>
                  <a:ahLst/>
                  <a:rect l="l" t="t" r="r" b="b"/>
                  <a:pathLst>
                    <a:path w="149" h="151">
                      <a:moveTo>
                        <a:pt x="110" y="9"/>
                      </a:moveTo>
                      <a:lnTo>
                        <a:pt x="95" y="3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3" y="4"/>
                      </a:lnTo>
                      <a:lnTo>
                        <a:pt x="39" y="9"/>
                      </a:lnTo>
                      <a:lnTo>
                        <a:pt x="28" y="17"/>
                      </a:lnTo>
                      <a:lnTo>
                        <a:pt x="17" y="29"/>
                      </a:lnTo>
                      <a:lnTo>
                        <a:pt x="9" y="41"/>
                      </a:lnTo>
                      <a:lnTo>
                        <a:pt x="2" y="55"/>
                      </a:lnTo>
                      <a:lnTo>
                        <a:pt x="0" y="69"/>
                      </a:lnTo>
                      <a:lnTo>
                        <a:pt x="0" y="84"/>
                      </a:lnTo>
                      <a:lnTo>
                        <a:pt x="4" y="98"/>
                      </a:lnTo>
                      <a:lnTo>
                        <a:pt x="9" y="111"/>
                      </a:lnTo>
                      <a:lnTo>
                        <a:pt x="17" y="123"/>
                      </a:lnTo>
                      <a:lnTo>
                        <a:pt x="28" y="134"/>
                      </a:lnTo>
                      <a:lnTo>
                        <a:pt x="40" y="142"/>
                      </a:lnTo>
                      <a:lnTo>
                        <a:pt x="55" y="147"/>
                      </a:lnTo>
                      <a:lnTo>
                        <a:pt x="69" y="151"/>
                      </a:lnTo>
                      <a:lnTo>
                        <a:pt x="84" y="150"/>
                      </a:lnTo>
                      <a:lnTo>
                        <a:pt x="97" y="146"/>
                      </a:lnTo>
                      <a:lnTo>
                        <a:pt x="111" y="141"/>
                      </a:lnTo>
                      <a:lnTo>
                        <a:pt x="122" y="133"/>
                      </a:lnTo>
                      <a:lnTo>
                        <a:pt x="133" y="122"/>
                      </a:lnTo>
                      <a:lnTo>
                        <a:pt x="141" y="110"/>
                      </a:lnTo>
                      <a:lnTo>
                        <a:pt x="147" y="96"/>
                      </a:lnTo>
                      <a:lnTo>
                        <a:pt x="149" y="82"/>
                      </a:lnTo>
                      <a:lnTo>
                        <a:pt x="149" y="67"/>
                      </a:lnTo>
                      <a:lnTo>
                        <a:pt x="146" y="53"/>
                      </a:lnTo>
                      <a:lnTo>
                        <a:pt x="141" y="39"/>
                      </a:lnTo>
                      <a:lnTo>
                        <a:pt x="133" y="28"/>
                      </a:lnTo>
                      <a:lnTo>
                        <a:pt x="122" y="17"/>
                      </a:lnTo>
                      <a:lnTo>
                        <a:pt x="110" y="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46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50680" y="-1511280"/>
                  <a:ext cx="63000" cy="41040"/>
                </a:xfrm>
                <a:custGeom>
                  <a:avLst/>
                  <a:gdLst/>
                  <a:ahLst/>
                  <a:rect l="l" t="t" r="r" b="b"/>
                  <a:pathLst>
                    <a:path w="86" h="53">
                      <a:moveTo>
                        <a:pt x="6" y="0"/>
                      </a:moveTo>
                      <a:lnTo>
                        <a:pt x="0" y="11"/>
                      </a:lnTo>
                      <a:lnTo>
                        <a:pt x="80" y="53"/>
                      </a:lnTo>
                      <a:lnTo>
                        <a:pt x="86" y="4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2439720" y="-1181160"/>
              <a:ext cx="1303200" cy="1181160"/>
              <a:chOff x="2439720" y="-1181160"/>
              <a:chExt cx="1303200" cy="1181160"/>
            </a:xfrm>
          </p:grpSpPr>
          <p:sp>
            <p:nvSpPr>
              <p:cNvPr id="270" name=""/>
              <p:cNvSpPr/>
              <p:nvPr/>
            </p:nvSpPr>
            <p:spPr>
              <a:xfrm>
                <a:off x="2714760" y="-1181160"/>
                <a:ext cx="781920" cy="1181160"/>
              </a:xfrm>
              <a:custGeom>
                <a:avLst/>
                <a:gdLst/>
                <a:ahLst/>
                <a:rect l="l" t="t" r="r" b="b"/>
                <a:pathLst>
                  <a:path w="1068" h="1487">
                    <a:moveTo>
                      <a:pt x="271" y="913"/>
                    </a:moveTo>
                    <a:lnTo>
                      <a:pt x="320" y="986"/>
                    </a:lnTo>
                    <a:lnTo>
                      <a:pt x="370" y="1056"/>
                    </a:lnTo>
                    <a:lnTo>
                      <a:pt x="396" y="1089"/>
                    </a:lnTo>
                    <a:lnTo>
                      <a:pt x="421" y="1120"/>
                    </a:lnTo>
                    <a:lnTo>
                      <a:pt x="447" y="1152"/>
                    </a:lnTo>
                    <a:lnTo>
                      <a:pt x="473" y="1182"/>
                    </a:lnTo>
                    <a:lnTo>
                      <a:pt x="499" y="1210"/>
                    </a:lnTo>
                    <a:lnTo>
                      <a:pt x="524" y="1238"/>
                    </a:lnTo>
                    <a:lnTo>
                      <a:pt x="550" y="1264"/>
                    </a:lnTo>
                    <a:lnTo>
                      <a:pt x="576" y="1289"/>
                    </a:lnTo>
                    <a:lnTo>
                      <a:pt x="601" y="1313"/>
                    </a:lnTo>
                    <a:lnTo>
                      <a:pt x="627" y="1335"/>
                    </a:lnTo>
                    <a:lnTo>
                      <a:pt x="652" y="1356"/>
                    </a:lnTo>
                    <a:lnTo>
                      <a:pt x="677" y="1376"/>
                    </a:lnTo>
                    <a:lnTo>
                      <a:pt x="701" y="1393"/>
                    </a:lnTo>
                    <a:lnTo>
                      <a:pt x="725" y="1410"/>
                    </a:lnTo>
                    <a:lnTo>
                      <a:pt x="749" y="1426"/>
                    </a:lnTo>
                    <a:lnTo>
                      <a:pt x="772" y="1439"/>
                    </a:lnTo>
                    <a:lnTo>
                      <a:pt x="795" y="1451"/>
                    </a:lnTo>
                    <a:lnTo>
                      <a:pt x="818" y="1461"/>
                    </a:lnTo>
                    <a:lnTo>
                      <a:pt x="839" y="1470"/>
                    </a:lnTo>
                    <a:lnTo>
                      <a:pt x="860" y="1477"/>
                    </a:lnTo>
                    <a:lnTo>
                      <a:pt x="881" y="1482"/>
                    </a:lnTo>
                    <a:lnTo>
                      <a:pt x="900" y="1485"/>
                    </a:lnTo>
                    <a:lnTo>
                      <a:pt x="919" y="1487"/>
                    </a:lnTo>
                    <a:lnTo>
                      <a:pt x="937" y="1487"/>
                    </a:lnTo>
                    <a:lnTo>
                      <a:pt x="953" y="1485"/>
                    </a:lnTo>
                    <a:lnTo>
                      <a:pt x="970" y="1481"/>
                    </a:lnTo>
                    <a:lnTo>
                      <a:pt x="985" y="1476"/>
                    </a:lnTo>
                    <a:lnTo>
                      <a:pt x="999" y="1468"/>
                    </a:lnTo>
                    <a:lnTo>
                      <a:pt x="1012" y="1458"/>
                    </a:lnTo>
                    <a:lnTo>
                      <a:pt x="1023" y="1447"/>
                    </a:lnTo>
                    <a:lnTo>
                      <a:pt x="1034" y="1433"/>
                    </a:lnTo>
                    <a:lnTo>
                      <a:pt x="1043" y="1419"/>
                    </a:lnTo>
                    <a:lnTo>
                      <a:pt x="1050" y="1403"/>
                    </a:lnTo>
                    <a:lnTo>
                      <a:pt x="1057" y="1384"/>
                    </a:lnTo>
                    <a:lnTo>
                      <a:pt x="1062" y="1365"/>
                    </a:lnTo>
                    <a:lnTo>
                      <a:pt x="1065" y="1344"/>
                    </a:lnTo>
                    <a:lnTo>
                      <a:pt x="1067" y="1323"/>
                    </a:lnTo>
                    <a:lnTo>
                      <a:pt x="1068" y="1300"/>
                    </a:lnTo>
                    <a:lnTo>
                      <a:pt x="1068" y="1275"/>
                    </a:lnTo>
                    <a:lnTo>
                      <a:pt x="1067" y="1250"/>
                    </a:lnTo>
                    <a:lnTo>
                      <a:pt x="1064" y="1222"/>
                    </a:lnTo>
                    <a:lnTo>
                      <a:pt x="1060" y="1194"/>
                    </a:lnTo>
                    <a:lnTo>
                      <a:pt x="1055" y="1166"/>
                    </a:lnTo>
                    <a:lnTo>
                      <a:pt x="1048" y="1136"/>
                    </a:lnTo>
                    <a:lnTo>
                      <a:pt x="1041" y="1105"/>
                    </a:lnTo>
                    <a:lnTo>
                      <a:pt x="1033" y="1073"/>
                    </a:lnTo>
                    <a:lnTo>
                      <a:pt x="1023" y="1041"/>
                    </a:lnTo>
                    <a:lnTo>
                      <a:pt x="1012" y="1008"/>
                    </a:lnTo>
                    <a:lnTo>
                      <a:pt x="1000" y="974"/>
                    </a:lnTo>
                    <a:lnTo>
                      <a:pt x="987" y="940"/>
                    </a:lnTo>
                    <a:lnTo>
                      <a:pt x="972" y="906"/>
                    </a:lnTo>
                    <a:lnTo>
                      <a:pt x="958" y="870"/>
                    </a:lnTo>
                    <a:lnTo>
                      <a:pt x="941" y="834"/>
                    </a:lnTo>
                    <a:lnTo>
                      <a:pt x="923" y="798"/>
                    </a:lnTo>
                    <a:lnTo>
                      <a:pt x="904" y="761"/>
                    </a:lnTo>
                    <a:lnTo>
                      <a:pt x="886" y="724"/>
                    </a:lnTo>
                    <a:lnTo>
                      <a:pt x="843" y="650"/>
                    </a:lnTo>
                    <a:lnTo>
                      <a:pt x="797" y="575"/>
                    </a:lnTo>
                    <a:lnTo>
                      <a:pt x="748" y="502"/>
                    </a:lnTo>
                    <a:lnTo>
                      <a:pt x="698" y="432"/>
                    </a:lnTo>
                    <a:lnTo>
                      <a:pt x="673" y="399"/>
                    </a:lnTo>
                    <a:lnTo>
                      <a:pt x="647" y="367"/>
                    </a:lnTo>
                    <a:lnTo>
                      <a:pt x="621" y="336"/>
                    </a:lnTo>
                    <a:lnTo>
                      <a:pt x="596" y="306"/>
                    </a:lnTo>
                    <a:lnTo>
                      <a:pt x="570" y="278"/>
                    </a:lnTo>
                    <a:lnTo>
                      <a:pt x="544" y="250"/>
                    </a:lnTo>
                    <a:lnTo>
                      <a:pt x="518" y="224"/>
                    </a:lnTo>
                    <a:lnTo>
                      <a:pt x="493" y="199"/>
                    </a:lnTo>
                    <a:lnTo>
                      <a:pt x="467" y="176"/>
                    </a:lnTo>
                    <a:lnTo>
                      <a:pt x="442" y="153"/>
                    </a:lnTo>
                    <a:lnTo>
                      <a:pt x="417" y="132"/>
                    </a:lnTo>
                    <a:lnTo>
                      <a:pt x="392" y="112"/>
                    </a:lnTo>
                    <a:lnTo>
                      <a:pt x="367" y="94"/>
                    </a:lnTo>
                    <a:lnTo>
                      <a:pt x="343" y="78"/>
                    </a:lnTo>
                    <a:lnTo>
                      <a:pt x="319" y="63"/>
                    </a:lnTo>
                    <a:lnTo>
                      <a:pt x="296" y="49"/>
                    </a:lnTo>
                    <a:lnTo>
                      <a:pt x="273" y="37"/>
                    </a:lnTo>
                    <a:lnTo>
                      <a:pt x="251" y="26"/>
                    </a:lnTo>
                    <a:lnTo>
                      <a:pt x="229" y="18"/>
                    </a:lnTo>
                    <a:lnTo>
                      <a:pt x="208" y="11"/>
                    </a:lnTo>
                    <a:lnTo>
                      <a:pt x="189" y="6"/>
                    </a:lnTo>
                    <a:lnTo>
                      <a:pt x="169" y="3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6" y="3"/>
                    </a:lnTo>
                    <a:lnTo>
                      <a:pt x="99" y="7"/>
                    </a:lnTo>
                    <a:lnTo>
                      <a:pt x="84" y="13"/>
                    </a:lnTo>
                    <a:lnTo>
                      <a:pt x="70" y="20"/>
                    </a:lnTo>
                    <a:lnTo>
                      <a:pt x="57" y="30"/>
                    </a:lnTo>
                    <a:lnTo>
                      <a:pt x="45" y="41"/>
                    </a:lnTo>
                    <a:lnTo>
                      <a:pt x="35" y="55"/>
                    </a:lnTo>
                    <a:lnTo>
                      <a:pt x="26" y="69"/>
                    </a:lnTo>
                    <a:lnTo>
                      <a:pt x="19" y="86"/>
                    </a:lnTo>
                    <a:lnTo>
                      <a:pt x="12" y="104"/>
                    </a:lnTo>
                    <a:lnTo>
                      <a:pt x="7" y="122"/>
                    </a:lnTo>
                    <a:lnTo>
                      <a:pt x="4" y="143"/>
                    </a:lnTo>
                    <a:lnTo>
                      <a:pt x="1" y="165"/>
                    </a:lnTo>
                    <a:lnTo>
                      <a:pt x="0" y="188"/>
                    </a:lnTo>
                    <a:lnTo>
                      <a:pt x="0" y="213"/>
                    </a:lnTo>
                    <a:lnTo>
                      <a:pt x="2" y="238"/>
                    </a:lnTo>
                    <a:lnTo>
                      <a:pt x="4" y="265"/>
                    </a:lnTo>
                    <a:lnTo>
                      <a:pt x="8" y="293"/>
                    </a:lnTo>
                    <a:lnTo>
                      <a:pt x="13" y="323"/>
                    </a:lnTo>
                    <a:lnTo>
                      <a:pt x="20" y="352"/>
                    </a:lnTo>
                    <a:lnTo>
                      <a:pt x="27" y="383"/>
                    </a:lnTo>
                    <a:lnTo>
                      <a:pt x="35" y="414"/>
                    </a:lnTo>
                    <a:lnTo>
                      <a:pt x="46" y="447"/>
                    </a:lnTo>
                    <a:lnTo>
                      <a:pt x="56" y="480"/>
                    </a:lnTo>
                    <a:lnTo>
                      <a:pt x="68" y="513"/>
                    </a:lnTo>
                    <a:lnTo>
                      <a:pt x="81" y="548"/>
                    </a:lnTo>
                    <a:lnTo>
                      <a:pt x="96" y="582"/>
                    </a:lnTo>
                    <a:lnTo>
                      <a:pt x="110" y="618"/>
                    </a:lnTo>
                    <a:lnTo>
                      <a:pt x="127" y="654"/>
                    </a:lnTo>
                    <a:lnTo>
                      <a:pt x="145" y="691"/>
                    </a:lnTo>
                    <a:lnTo>
                      <a:pt x="164" y="727"/>
                    </a:lnTo>
                    <a:lnTo>
                      <a:pt x="182" y="764"/>
                    </a:lnTo>
                    <a:lnTo>
                      <a:pt x="225" y="838"/>
                    </a:lnTo>
                    <a:lnTo>
                      <a:pt x="271" y="913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91720" y="-1162080"/>
                <a:ext cx="828720" cy="1143000"/>
              </a:xfrm>
              <a:custGeom>
                <a:avLst/>
                <a:gdLst/>
                <a:ahLst/>
                <a:rect l="l" t="t" r="r" b="b"/>
                <a:pathLst>
                  <a:path w="1130" h="1439">
                    <a:moveTo>
                      <a:pt x="818" y="904"/>
                    </a:moveTo>
                    <a:lnTo>
                      <a:pt x="868" y="832"/>
                    </a:lnTo>
                    <a:lnTo>
                      <a:pt x="915" y="761"/>
                    </a:lnTo>
                    <a:lnTo>
                      <a:pt x="937" y="725"/>
                    </a:lnTo>
                    <a:lnTo>
                      <a:pt x="956" y="689"/>
                    </a:lnTo>
                    <a:lnTo>
                      <a:pt x="976" y="654"/>
                    </a:lnTo>
                    <a:lnTo>
                      <a:pt x="995" y="619"/>
                    </a:lnTo>
                    <a:lnTo>
                      <a:pt x="1013" y="584"/>
                    </a:lnTo>
                    <a:lnTo>
                      <a:pt x="1028" y="550"/>
                    </a:lnTo>
                    <a:lnTo>
                      <a:pt x="1044" y="517"/>
                    </a:lnTo>
                    <a:lnTo>
                      <a:pt x="1057" y="483"/>
                    </a:lnTo>
                    <a:lnTo>
                      <a:pt x="1070" y="451"/>
                    </a:lnTo>
                    <a:lnTo>
                      <a:pt x="1081" y="420"/>
                    </a:lnTo>
                    <a:lnTo>
                      <a:pt x="1092" y="388"/>
                    </a:lnTo>
                    <a:lnTo>
                      <a:pt x="1101" y="358"/>
                    </a:lnTo>
                    <a:lnTo>
                      <a:pt x="1110" y="329"/>
                    </a:lnTo>
                    <a:lnTo>
                      <a:pt x="1116" y="300"/>
                    </a:lnTo>
                    <a:lnTo>
                      <a:pt x="1122" y="273"/>
                    </a:lnTo>
                    <a:lnTo>
                      <a:pt x="1126" y="245"/>
                    </a:lnTo>
                    <a:lnTo>
                      <a:pt x="1128" y="220"/>
                    </a:lnTo>
                    <a:lnTo>
                      <a:pt x="1130" y="195"/>
                    </a:lnTo>
                    <a:lnTo>
                      <a:pt x="1130" y="172"/>
                    </a:lnTo>
                    <a:lnTo>
                      <a:pt x="1129" y="151"/>
                    </a:lnTo>
                    <a:lnTo>
                      <a:pt x="1127" y="130"/>
                    </a:lnTo>
                    <a:lnTo>
                      <a:pt x="1123" y="110"/>
                    </a:lnTo>
                    <a:lnTo>
                      <a:pt x="1118" y="92"/>
                    </a:lnTo>
                    <a:lnTo>
                      <a:pt x="1112" y="75"/>
                    </a:lnTo>
                    <a:lnTo>
                      <a:pt x="1103" y="60"/>
                    </a:lnTo>
                    <a:lnTo>
                      <a:pt x="1094" y="46"/>
                    </a:lnTo>
                    <a:lnTo>
                      <a:pt x="1083" y="35"/>
                    </a:lnTo>
                    <a:lnTo>
                      <a:pt x="1071" y="24"/>
                    </a:lnTo>
                    <a:lnTo>
                      <a:pt x="1057" y="16"/>
                    </a:lnTo>
                    <a:lnTo>
                      <a:pt x="1043" y="9"/>
                    </a:lnTo>
                    <a:lnTo>
                      <a:pt x="1026" y="5"/>
                    </a:lnTo>
                    <a:lnTo>
                      <a:pt x="1009" y="1"/>
                    </a:lnTo>
                    <a:lnTo>
                      <a:pt x="992" y="0"/>
                    </a:lnTo>
                    <a:lnTo>
                      <a:pt x="973" y="0"/>
                    </a:lnTo>
                    <a:lnTo>
                      <a:pt x="953" y="4"/>
                    </a:lnTo>
                    <a:lnTo>
                      <a:pt x="932" y="8"/>
                    </a:lnTo>
                    <a:lnTo>
                      <a:pt x="912" y="13"/>
                    </a:lnTo>
                    <a:lnTo>
                      <a:pt x="890" y="20"/>
                    </a:lnTo>
                    <a:lnTo>
                      <a:pt x="867" y="30"/>
                    </a:lnTo>
                    <a:lnTo>
                      <a:pt x="843" y="40"/>
                    </a:lnTo>
                    <a:lnTo>
                      <a:pt x="819" y="53"/>
                    </a:lnTo>
                    <a:lnTo>
                      <a:pt x="795" y="66"/>
                    </a:lnTo>
                    <a:lnTo>
                      <a:pt x="770" y="81"/>
                    </a:lnTo>
                    <a:lnTo>
                      <a:pt x="744" y="97"/>
                    </a:lnTo>
                    <a:lnTo>
                      <a:pt x="718" y="116"/>
                    </a:lnTo>
                    <a:lnTo>
                      <a:pt x="692" y="135"/>
                    </a:lnTo>
                    <a:lnTo>
                      <a:pt x="666" y="156"/>
                    </a:lnTo>
                    <a:lnTo>
                      <a:pt x="638" y="178"/>
                    </a:lnTo>
                    <a:lnTo>
                      <a:pt x="611" y="202"/>
                    </a:lnTo>
                    <a:lnTo>
                      <a:pt x="584" y="227"/>
                    </a:lnTo>
                    <a:lnTo>
                      <a:pt x="556" y="252"/>
                    </a:lnTo>
                    <a:lnTo>
                      <a:pt x="529" y="279"/>
                    </a:lnTo>
                    <a:lnTo>
                      <a:pt x="502" y="308"/>
                    </a:lnTo>
                    <a:lnTo>
                      <a:pt x="474" y="337"/>
                    </a:lnTo>
                    <a:lnTo>
                      <a:pt x="447" y="367"/>
                    </a:lnTo>
                    <a:lnTo>
                      <a:pt x="420" y="399"/>
                    </a:lnTo>
                    <a:lnTo>
                      <a:pt x="365" y="465"/>
                    </a:lnTo>
                    <a:lnTo>
                      <a:pt x="312" y="535"/>
                    </a:lnTo>
                    <a:lnTo>
                      <a:pt x="262" y="607"/>
                    </a:lnTo>
                    <a:lnTo>
                      <a:pt x="215" y="679"/>
                    </a:lnTo>
                    <a:lnTo>
                      <a:pt x="193" y="716"/>
                    </a:lnTo>
                    <a:lnTo>
                      <a:pt x="174" y="751"/>
                    </a:lnTo>
                    <a:lnTo>
                      <a:pt x="154" y="786"/>
                    </a:lnTo>
                    <a:lnTo>
                      <a:pt x="135" y="821"/>
                    </a:lnTo>
                    <a:lnTo>
                      <a:pt x="118" y="855"/>
                    </a:lnTo>
                    <a:lnTo>
                      <a:pt x="102" y="890"/>
                    </a:lnTo>
                    <a:lnTo>
                      <a:pt x="86" y="923"/>
                    </a:lnTo>
                    <a:lnTo>
                      <a:pt x="73" y="957"/>
                    </a:lnTo>
                    <a:lnTo>
                      <a:pt x="60" y="989"/>
                    </a:lnTo>
                    <a:lnTo>
                      <a:pt x="49" y="1020"/>
                    </a:lnTo>
                    <a:lnTo>
                      <a:pt x="38" y="1051"/>
                    </a:lnTo>
                    <a:lnTo>
                      <a:pt x="29" y="1082"/>
                    </a:lnTo>
                    <a:lnTo>
                      <a:pt x="20" y="1111"/>
                    </a:lnTo>
                    <a:lnTo>
                      <a:pt x="14" y="1140"/>
                    </a:lnTo>
                    <a:lnTo>
                      <a:pt x="8" y="1167"/>
                    </a:lnTo>
                    <a:lnTo>
                      <a:pt x="4" y="1194"/>
                    </a:lnTo>
                    <a:lnTo>
                      <a:pt x="2" y="1219"/>
                    </a:lnTo>
                    <a:lnTo>
                      <a:pt x="0" y="1244"/>
                    </a:lnTo>
                    <a:lnTo>
                      <a:pt x="0" y="1267"/>
                    </a:lnTo>
                    <a:lnTo>
                      <a:pt x="1" y="1289"/>
                    </a:lnTo>
                    <a:lnTo>
                      <a:pt x="3" y="1310"/>
                    </a:lnTo>
                    <a:lnTo>
                      <a:pt x="7" y="1330"/>
                    </a:lnTo>
                    <a:lnTo>
                      <a:pt x="12" y="1348"/>
                    </a:lnTo>
                    <a:lnTo>
                      <a:pt x="18" y="1364"/>
                    </a:lnTo>
                    <a:lnTo>
                      <a:pt x="27" y="1380"/>
                    </a:lnTo>
                    <a:lnTo>
                      <a:pt x="36" y="1393"/>
                    </a:lnTo>
                    <a:lnTo>
                      <a:pt x="47" y="1405"/>
                    </a:lnTo>
                    <a:lnTo>
                      <a:pt x="59" y="1415"/>
                    </a:lnTo>
                    <a:lnTo>
                      <a:pt x="73" y="1424"/>
                    </a:lnTo>
                    <a:lnTo>
                      <a:pt x="87" y="1431"/>
                    </a:lnTo>
                    <a:lnTo>
                      <a:pt x="104" y="1435"/>
                    </a:lnTo>
                    <a:lnTo>
                      <a:pt x="121" y="1438"/>
                    </a:lnTo>
                    <a:lnTo>
                      <a:pt x="138" y="1439"/>
                    </a:lnTo>
                    <a:lnTo>
                      <a:pt x="157" y="1439"/>
                    </a:lnTo>
                    <a:lnTo>
                      <a:pt x="177" y="1436"/>
                    </a:lnTo>
                    <a:lnTo>
                      <a:pt x="198" y="1433"/>
                    </a:lnTo>
                    <a:lnTo>
                      <a:pt x="218" y="1427"/>
                    </a:lnTo>
                    <a:lnTo>
                      <a:pt x="240" y="1420"/>
                    </a:lnTo>
                    <a:lnTo>
                      <a:pt x="263" y="1410"/>
                    </a:lnTo>
                    <a:lnTo>
                      <a:pt x="287" y="1400"/>
                    </a:lnTo>
                    <a:lnTo>
                      <a:pt x="311" y="1387"/>
                    </a:lnTo>
                    <a:lnTo>
                      <a:pt x="335" y="1374"/>
                    </a:lnTo>
                    <a:lnTo>
                      <a:pt x="360" y="1359"/>
                    </a:lnTo>
                    <a:lnTo>
                      <a:pt x="386" y="1342"/>
                    </a:lnTo>
                    <a:lnTo>
                      <a:pt x="412" y="1324"/>
                    </a:lnTo>
                    <a:lnTo>
                      <a:pt x="438" y="1305"/>
                    </a:lnTo>
                    <a:lnTo>
                      <a:pt x="464" y="1284"/>
                    </a:lnTo>
                    <a:lnTo>
                      <a:pt x="492" y="1262"/>
                    </a:lnTo>
                    <a:lnTo>
                      <a:pt x="519" y="1238"/>
                    </a:lnTo>
                    <a:lnTo>
                      <a:pt x="546" y="1213"/>
                    </a:lnTo>
                    <a:lnTo>
                      <a:pt x="574" y="1188"/>
                    </a:lnTo>
                    <a:lnTo>
                      <a:pt x="601" y="1161"/>
                    </a:lnTo>
                    <a:lnTo>
                      <a:pt x="628" y="1133"/>
                    </a:lnTo>
                    <a:lnTo>
                      <a:pt x="656" y="1103"/>
                    </a:lnTo>
                    <a:lnTo>
                      <a:pt x="683" y="1072"/>
                    </a:lnTo>
                    <a:lnTo>
                      <a:pt x="710" y="1041"/>
                    </a:lnTo>
                    <a:lnTo>
                      <a:pt x="765" y="974"/>
                    </a:lnTo>
                    <a:lnTo>
                      <a:pt x="818" y="904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56400" y="-64944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10" y="8"/>
                    </a:moveTo>
                    <a:lnTo>
                      <a:pt x="15" y="4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7" y="3"/>
                    </a:lnTo>
                    <a:lnTo>
                      <a:pt x="52" y="6"/>
                    </a:lnTo>
                    <a:lnTo>
                      <a:pt x="57" y="10"/>
                    </a:lnTo>
                    <a:lnTo>
                      <a:pt x="61" y="16"/>
                    </a:lnTo>
                    <a:lnTo>
                      <a:pt x="64" y="22"/>
                    </a:lnTo>
                    <a:lnTo>
                      <a:pt x="65" y="28"/>
                    </a:lnTo>
                    <a:lnTo>
                      <a:pt x="65" y="34"/>
                    </a:lnTo>
                    <a:lnTo>
                      <a:pt x="65" y="41"/>
                    </a:lnTo>
                    <a:lnTo>
                      <a:pt x="63" y="47"/>
                    </a:lnTo>
                    <a:lnTo>
                      <a:pt x="59" y="52"/>
                    </a:lnTo>
                    <a:lnTo>
                      <a:pt x="55" y="57"/>
                    </a:lnTo>
                    <a:lnTo>
                      <a:pt x="50" y="61"/>
                    </a:lnTo>
                    <a:lnTo>
                      <a:pt x="44" y="65"/>
                    </a:lnTo>
                    <a:lnTo>
                      <a:pt x="37" y="66"/>
                    </a:lnTo>
                    <a:lnTo>
                      <a:pt x="31" y="66"/>
                    </a:lnTo>
                    <a:lnTo>
                      <a:pt x="25" y="66"/>
                    </a:lnTo>
                    <a:lnTo>
                      <a:pt x="19" y="63"/>
                    </a:lnTo>
                    <a:lnTo>
                      <a:pt x="13" y="59"/>
                    </a:lnTo>
                    <a:lnTo>
                      <a:pt x="8" y="55"/>
                    </a:lnTo>
                    <a:lnTo>
                      <a:pt x="4" y="50"/>
                    </a:lnTo>
                    <a:lnTo>
                      <a:pt x="1" y="44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3" y="19"/>
                    </a:lnTo>
                    <a:lnTo>
                      <a:pt x="6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87960" y="-863640"/>
                <a:ext cx="1254960" cy="506160"/>
              </a:xfrm>
              <a:custGeom>
                <a:avLst/>
                <a:gdLst/>
                <a:ahLst/>
                <a:rect l="l" t="t" r="r" b="b"/>
                <a:pathLst>
                  <a:path w="1715" h="637">
                    <a:moveTo>
                      <a:pt x="881" y="6"/>
                    </a:moveTo>
                    <a:lnTo>
                      <a:pt x="969" y="14"/>
                    </a:lnTo>
                    <a:lnTo>
                      <a:pt x="1053" y="26"/>
                    </a:lnTo>
                    <a:lnTo>
                      <a:pt x="1135" y="39"/>
                    </a:lnTo>
                    <a:lnTo>
                      <a:pt x="1212" y="56"/>
                    </a:lnTo>
                    <a:lnTo>
                      <a:pt x="1250" y="64"/>
                    </a:lnTo>
                    <a:lnTo>
                      <a:pt x="1286" y="75"/>
                    </a:lnTo>
                    <a:lnTo>
                      <a:pt x="1322" y="84"/>
                    </a:lnTo>
                    <a:lnTo>
                      <a:pt x="1356" y="96"/>
                    </a:lnTo>
                    <a:lnTo>
                      <a:pt x="1390" y="106"/>
                    </a:lnTo>
                    <a:lnTo>
                      <a:pt x="1421" y="119"/>
                    </a:lnTo>
                    <a:lnTo>
                      <a:pt x="1451" y="130"/>
                    </a:lnTo>
                    <a:lnTo>
                      <a:pt x="1480" y="143"/>
                    </a:lnTo>
                    <a:lnTo>
                      <a:pt x="1508" y="156"/>
                    </a:lnTo>
                    <a:lnTo>
                      <a:pt x="1534" y="170"/>
                    </a:lnTo>
                    <a:lnTo>
                      <a:pt x="1558" y="183"/>
                    </a:lnTo>
                    <a:lnTo>
                      <a:pt x="1581" y="197"/>
                    </a:lnTo>
                    <a:lnTo>
                      <a:pt x="1603" y="211"/>
                    </a:lnTo>
                    <a:lnTo>
                      <a:pt x="1623" y="226"/>
                    </a:lnTo>
                    <a:lnTo>
                      <a:pt x="1641" y="241"/>
                    </a:lnTo>
                    <a:lnTo>
                      <a:pt x="1656" y="256"/>
                    </a:lnTo>
                    <a:lnTo>
                      <a:pt x="1671" y="271"/>
                    </a:lnTo>
                    <a:lnTo>
                      <a:pt x="1683" y="287"/>
                    </a:lnTo>
                    <a:lnTo>
                      <a:pt x="1694" y="302"/>
                    </a:lnTo>
                    <a:lnTo>
                      <a:pt x="1702" y="319"/>
                    </a:lnTo>
                    <a:lnTo>
                      <a:pt x="1708" y="335"/>
                    </a:lnTo>
                    <a:lnTo>
                      <a:pt x="1713" y="350"/>
                    </a:lnTo>
                    <a:lnTo>
                      <a:pt x="1715" y="367"/>
                    </a:lnTo>
                    <a:lnTo>
                      <a:pt x="1715" y="383"/>
                    </a:lnTo>
                    <a:lnTo>
                      <a:pt x="1713" y="398"/>
                    </a:lnTo>
                    <a:lnTo>
                      <a:pt x="1708" y="414"/>
                    </a:lnTo>
                    <a:lnTo>
                      <a:pt x="1701" y="429"/>
                    </a:lnTo>
                    <a:lnTo>
                      <a:pt x="1693" y="444"/>
                    </a:lnTo>
                    <a:lnTo>
                      <a:pt x="1682" y="459"/>
                    </a:lnTo>
                    <a:lnTo>
                      <a:pt x="1669" y="472"/>
                    </a:lnTo>
                    <a:lnTo>
                      <a:pt x="1655" y="486"/>
                    </a:lnTo>
                    <a:lnTo>
                      <a:pt x="1639" y="499"/>
                    </a:lnTo>
                    <a:lnTo>
                      <a:pt x="1620" y="512"/>
                    </a:lnTo>
                    <a:lnTo>
                      <a:pt x="1600" y="523"/>
                    </a:lnTo>
                    <a:lnTo>
                      <a:pt x="1578" y="535"/>
                    </a:lnTo>
                    <a:lnTo>
                      <a:pt x="1555" y="546"/>
                    </a:lnTo>
                    <a:lnTo>
                      <a:pt x="1530" y="557"/>
                    </a:lnTo>
                    <a:lnTo>
                      <a:pt x="1504" y="566"/>
                    </a:lnTo>
                    <a:lnTo>
                      <a:pt x="1476" y="575"/>
                    </a:lnTo>
                    <a:lnTo>
                      <a:pt x="1447" y="585"/>
                    </a:lnTo>
                    <a:lnTo>
                      <a:pt x="1417" y="592"/>
                    </a:lnTo>
                    <a:lnTo>
                      <a:pt x="1384" y="599"/>
                    </a:lnTo>
                    <a:lnTo>
                      <a:pt x="1352" y="607"/>
                    </a:lnTo>
                    <a:lnTo>
                      <a:pt x="1318" y="613"/>
                    </a:lnTo>
                    <a:lnTo>
                      <a:pt x="1282" y="618"/>
                    </a:lnTo>
                    <a:lnTo>
                      <a:pt x="1246" y="623"/>
                    </a:lnTo>
                    <a:lnTo>
                      <a:pt x="1170" y="631"/>
                    </a:lnTo>
                    <a:lnTo>
                      <a:pt x="1090" y="635"/>
                    </a:lnTo>
                    <a:lnTo>
                      <a:pt x="1007" y="637"/>
                    </a:lnTo>
                    <a:lnTo>
                      <a:pt x="922" y="635"/>
                    </a:lnTo>
                    <a:lnTo>
                      <a:pt x="834" y="630"/>
                    </a:lnTo>
                    <a:lnTo>
                      <a:pt x="747" y="621"/>
                    </a:lnTo>
                    <a:lnTo>
                      <a:pt x="662" y="611"/>
                    </a:lnTo>
                    <a:lnTo>
                      <a:pt x="581" y="596"/>
                    </a:lnTo>
                    <a:lnTo>
                      <a:pt x="503" y="581"/>
                    </a:lnTo>
                    <a:lnTo>
                      <a:pt x="465" y="571"/>
                    </a:lnTo>
                    <a:lnTo>
                      <a:pt x="429" y="562"/>
                    </a:lnTo>
                    <a:lnTo>
                      <a:pt x="393" y="551"/>
                    </a:lnTo>
                    <a:lnTo>
                      <a:pt x="359" y="541"/>
                    </a:lnTo>
                    <a:lnTo>
                      <a:pt x="325" y="530"/>
                    </a:lnTo>
                    <a:lnTo>
                      <a:pt x="294" y="518"/>
                    </a:lnTo>
                    <a:lnTo>
                      <a:pt x="264" y="506"/>
                    </a:lnTo>
                    <a:lnTo>
                      <a:pt x="235" y="493"/>
                    </a:lnTo>
                    <a:lnTo>
                      <a:pt x="207" y="481"/>
                    </a:lnTo>
                    <a:lnTo>
                      <a:pt x="181" y="467"/>
                    </a:lnTo>
                    <a:lnTo>
                      <a:pt x="157" y="453"/>
                    </a:lnTo>
                    <a:lnTo>
                      <a:pt x="134" y="439"/>
                    </a:lnTo>
                    <a:lnTo>
                      <a:pt x="112" y="424"/>
                    </a:lnTo>
                    <a:lnTo>
                      <a:pt x="92" y="410"/>
                    </a:lnTo>
                    <a:lnTo>
                      <a:pt x="74" y="395"/>
                    </a:lnTo>
                    <a:lnTo>
                      <a:pt x="59" y="380"/>
                    </a:lnTo>
                    <a:lnTo>
                      <a:pt x="44" y="365"/>
                    </a:lnTo>
                    <a:lnTo>
                      <a:pt x="32" y="349"/>
                    </a:lnTo>
                    <a:lnTo>
                      <a:pt x="21" y="333"/>
                    </a:lnTo>
                    <a:lnTo>
                      <a:pt x="13" y="318"/>
                    </a:lnTo>
                    <a:lnTo>
                      <a:pt x="7" y="301"/>
                    </a:lnTo>
                    <a:lnTo>
                      <a:pt x="2" y="286"/>
                    </a:lnTo>
                    <a:lnTo>
                      <a:pt x="0" y="270"/>
                    </a:lnTo>
                    <a:lnTo>
                      <a:pt x="0" y="253"/>
                    </a:lnTo>
                    <a:lnTo>
                      <a:pt x="2" y="238"/>
                    </a:lnTo>
                    <a:lnTo>
                      <a:pt x="8" y="222"/>
                    </a:lnTo>
                    <a:lnTo>
                      <a:pt x="14" y="206"/>
                    </a:lnTo>
                    <a:lnTo>
                      <a:pt x="22" y="192"/>
                    </a:lnTo>
                    <a:lnTo>
                      <a:pt x="33" y="177"/>
                    </a:lnTo>
                    <a:lnTo>
                      <a:pt x="46" y="164"/>
                    </a:lnTo>
                    <a:lnTo>
                      <a:pt x="61" y="150"/>
                    </a:lnTo>
                    <a:lnTo>
                      <a:pt x="76" y="137"/>
                    </a:lnTo>
                    <a:lnTo>
                      <a:pt x="95" y="125"/>
                    </a:lnTo>
                    <a:lnTo>
                      <a:pt x="115" y="112"/>
                    </a:lnTo>
                    <a:lnTo>
                      <a:pt x="137" y="101"/>
                    </a:lnTo>
                    <a:lnTo>
                      <a:pt x="160" y="91"/>
                    </a:lnTo>
                    <a:lnTo>
                      <a:pt x="185" y="80"/>
                    </a:lnTo>
                    <a:lnTo>
                      <a:pt x="211" y="70"/>
                    </a:lnTo>
                    <a:lnTo>
                      <a:pt x="239" y="60"/>
                    </a:lnTo>
                    <a:lnTo>
                      <a:pt x="268" y="52"/>
                    </a:lnTo>
                    <a:lnTo>
                      <a:pt x="298" y="44"/>
                    </a:lnTo>
                    <a:lnTo>
                      <a:pt x="331" y="36"/>
                    </a:lnTo>
                    <a:lnTo>
                      <a:pt x="363" y="29"/>
                    </a:lnTo>
                    <a:lnTo>
                      <a:pt x="397" y="24"/>
                    </a:lnTo>
                    <a:lnTo>
                      <a:pt x="433" y="18"/>
                    </a:lnTo>
                    <a:lnTo>
                      <a:pt x="469" y="13"/>
                    </a:lnTo>
                    <a:lnTo>
                      <a:pt x="545" y="6"/>
                    </a:lnTo>
                    <a:lnTo>
                      <a:pt x="625" y="1"/>
                    </a:lnTo>
                    <a:lnTo>
                      <a:pt x="708" y="0"/>
                    </a:lnTo>
                    <a:lnTo>
                      <a:pt x="793" y="1"/>
                    </a:lnTo>
                    <a:lnTo>
                      <a:pt x="881" y="6"/>
                    </a:lnTo>
                    <a:close/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2439720" y="-727200"/>
                <a:ext cx="109800" cy="119160"/>
                <a:chOff x="2439720" y="-727200"/>
                <a:chExt cx="109800" cy="119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2439720" y="-727200"/>
                  <a:ext cx="109800" cy="11916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126" y="130"/>
                      </a:moveTo>
                      <a:lnTo>
                        <a:pt x="136" y="119"/>
                      </a:lnTo>
                      <a:lnTo>
                        <a:pt x="144" y="106"/>
                      </a:lnTo>
                      <a:lnTo>
                        <a:pt x="148" y="93"/>
                      </a:lnTo>
                      <a:lnTo>
                        <a:pt x="150" y="78"/>
                      </a:lnTo>
                      <a:lnTo>
                        <a:pt x="149" y="63"/>
                      </a:lnTo>
                      <a:lnTo>
                        <a:pt x="146" y="50"/>
                      </a:lnTo>
                      <a:lnTo>
                        <a:pt x="139" y="36"/>
                      </a:lnTo>
                      <a:lnTo>
                        <a:pt x="130" y="24"/>
                      </a:lnTo>
                      <a:lnTo>
                        <a:pt x="119" y="13"/>
                      </a:lnTo>
                      <a:lnTo>
                        <a:pt x="106" y="6"/>
                      </a:lnTo>
                      <a:lnTo>
                        <a:pt x="92" y="2"/>
                      </a:lnTo>
                      <a:lnTo>
                        <a:pt x="78" y="0"/>
                      </a:lnTo>
                      <a:lnTo>
                        <a:pt x="63" y="1"/>
                      </a:lnTo>
                      <a:lnTo>
                        <a:pt x="50" y="4"/>
                      </a:lnTo>
                      <a:lnTo>
                        <a:pt x="36" y="10"/>
                      </a:lnTo>
                      <a:lnTo>
                        <a:pt x="24" y="20"/>
                      </a:lnTo>
                      <a:lnTo>
                        <a:pt x="13" y="31"/>
                      </a:lnTo>
                      <a:lnTo>
                        <a:pt x="6" y="44"/>
                      </a:lnTo>
                      <a:lnTo>
                        <a:pt x="2" y="57"/>
                      </a:lnTo>
                      <a:lnTo>
                        <a:pt x="0" y="72"/>
                      </a:lnTo>
                      <a:lnTo>
                        <a:pt x="1" y="86"/>
                      </a:lnTo>
                      <a:lnTo>
                        <a:pt x="4" y="100"/>
                      </a:lnTo>
                      <a:lnTo>
                        <a:pt x="10" y="113"/>
                      </a:lnTo>
                      <a:lnTo>
                        <a:pt x="20" y="126"/>
                      </a:lnTo>
                      <a:lnTo>
                        <a:pt x="31" y="136"/>
                      </a:lnTo>
                      <a:lnTo>
                        <a:pt x="44" y="144"/>
                      </a:lnTo>
                      <a:lnTo>
                        <a:pt x="57" y="148"/>
                      </a:lnTo>
                      <a:lnTo>
                        <a:pt x="72" y="150"/>
                      </a:lnTo>
                      <a:lnTo>
                        <a:pt x="86" y="149"/>
                      </a:lnTo>
                      <a:lnTo>
                        <a:pt x="100" y="146"/>
                      </a:lnTo>
                      <a:lnTo>
                        <a:pt x="113" y="140"/>
                      </a:lnTo>
                      <a:lnTo>
                        <a:pt x="126" y="13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46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69240" y="-695520"/>
                  <a:ext cx="54000" cy="57240"/>
                </a:xfrm>
                <a:custGeom>
                  <a:avLst/>
                  <a:gdLst/>
                  <a:ahLst/>
                  <a:rect l="l" t="t" r="r" b="b"/>
                  <a:pathLst>
                    <a:path w="74" h="71">
                      <a:moveTo>
                        <a:pt x="74" y="10"/>
                      </a:moveTo>
                      <a:lnTo>
                        <a:pt x="67" y="0"/>
                      </a:lnTo>
                      <a:lnTo>
                        <a:pt x="0" y="62"/>
                      </a:lnTo>
                      <a:lnTo>
                        <a:pt x="8" y="71"/>
                      </a:lnTo>
                      <a:lnTo>
                        <a:pt x="74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7" name=""/>
          <p:cNvSpPr/>
          <p:nvPr/>
        </p:nvSpPr>
        <p:spPr>
          <a:xfrm>
            <a:off x="-1738440" y="5621400"/>
            <a:ext cx="2239920" cy="125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5459400"/>
            <a:ext cx="4009680" cy="162000"/>
            <a:chOff x="0" y="5459400"/>
            <a:chExt cx="4009680" cy="162000"/>
          </a:xfrm>
        </p:grpSpPr>
        <p:sp>
          <p:nvSpPr>
            <p:cNvPr id="279" name=""/>
            <p:cNvSpPr/>
            <p:nvPr/>
          </p:nvSpPr>
          <p:spPr>
            <a:xfrm>
              <a:off x="0" y="5459400"/>
              <a:ext cx="50148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48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26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037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052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63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0744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0856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0" y="5459400"/>
            <a:ext cx="4009680" cy="162000"/>
            <a:chOff x="0" y="5459400"/>
            <a:chExt cx="4009680" cy="162000"/>
          </a:xfrm>
        </p:grpSpPr>
        <p:sp>
          <p:nvSpPr>
            <p:cNvPr id="288" name=""/>
            <p:cNvSpPr/>
            <p:nvPr/>
          </p:nvSpPr>
          <p:spPr>
            <a:xfrm>
              <a:off x="0" y="5459400"/>
              <a:ext cx="50148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148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026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37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0520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632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0744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8560" y="5459400"/>
              <a:ext cx="501120" cy="16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0" bIns="54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537000" y="5267160"/>
            <a:ext cx="511200" cy="5540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autoRev="1" nodeType="click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7302E-006 -3.03423E-006 L -2.37302E-006 0.04649 E">
                                      <p:cBhvr>
                                        <p:cTn id="71" dur="1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autoRev="1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6493E-006 4.43108E-006 L 2.86493E-006 0.09181 E">
                                      <p:cBhvr>
                                        <p:cTn id="75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autoRev="1" nodeType="clickEffect" fill="hold" presetClass="path" presetID="42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7302E-006 -3.03423E-006 L -2.37302E-006 0.04649 E">
                                      <p:cBhvr>
                                        <p:cTn id="89" dur="2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autoRev="1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91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641E-006 -3.33333E-006 L 0.48333 0.73473 E">
                                      <p:cBhvr>
                                        <p:cTn id="11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96 0.00509 L -0.00962 0.01782 E">
                                      <p:cBhvr>
                                        <p:cTn id="12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33 0.73473 L 1.03141 0.94306 E">
                                      <p:cBhvr>
                                        <p:cTn id="12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2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3200400"/>
            <a:ext cx="60958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nfra red light from unconstrained molecule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1752480"/>
            <a:ext cx="5791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 types of molecular jiggling occur at different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624720" y="3200400"/>
            <a:ext cx="2519280" cy="863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624720" y="4038480"/>
            <a:ext cx="2519280" cy="1101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624720" y="5133960"/>
            <a:ext cx="2519280" cy="96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624720" y="6048360"/>
            <a:ext cx="2519280" cy="80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556236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21920" y="1676520"/>
            <a:ext cx="7389720" cy="449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H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easeless disordered motions of atoms an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speed with which atoms and molecul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toms and molecules are electr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ir nature, and as they move they are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onstantly emitting and absorbing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8:02:20Z</dcterms:created>
  <dc:creator>Neil Adams</dc:creator>
  <dc:description/>
  <dc:language>en-US</dc:language>
  <cp:lastModifiedBy>Neil Adams</cp:lastModifiedBy>
  <dcterms:modified xsi:type="dcterms:W3CDTF">2011-01-25T08:31:29Z</dcterms:modified>
  <cp:revision>3</cp:revision>
  <dc:subject/>
  <dc:title>Heat and other energy transfers</dc:title>
</cp:coreProperties>
</file>